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A2A-7898-4D01-8BF4-604235B0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53D-6C7F-44D7-B32B-5EB53957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35D-DCD2-496D-B9D9-80ECEEA9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557-319F-4E01-AD0B-0D36A6F7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D11-D507-4C47-9696-BCE24DB2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80B-C220-4EF1-9139-7BBCD9F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3B4-C42F-49FB-8F2E-79BC4E99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FBA-8DFF-44F4-A85A-04C3F300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0C8-8B55-40D5-82B2-574D0B07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195-1E13-4A49-B37C-520F69B4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49A-29A6-453E-85CD-13AC80DD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CD1-05F5-4A02-824E-82A411A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ED99-FDE3-4DA5-8E05-D8B011632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6.jpe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6.jpeg"/><Relationship Id="rId11" Type="http://schemas.openxmlformats.org/officeDocument/2006/relationships/image" Target="../media/image15.pn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6.jpe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39960" y="2347920"/>
            <a:ext cx="1398600" cy="301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7640" y="609480"/>
            <a:ext cx="62481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ホームネットワークの構成図を作成する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ネットワークを構築する場合は、まず、どんな機械をどのように接続するか決めるためネットワーク構成図を作成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554-F5B5-42BF-A090-CE543443BC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1800" y="2430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構成図作成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E98-C6E1-44B7-AA33-8B99F97495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1800" y="2430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構成図サンプ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個人用ミニ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19440" y="1219320"/>
            <a:ext cx="804600" cy="35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6480" y="1073160"/>
            <a:ext cx="811080" cy="274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28720" y="1533600"/>
            <a:ext cx="11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iMax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ルー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60800" y="825480"/>
            <a:ext cx="506160" cy="979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2543040" y="1415880"/>
            <a:ext cx="666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280" y="1903320"/>
            <a:ext cx="111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無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ルー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92520" y="1314360"/>
            <a:ext cx="858960" cy="768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964040" y="2449440"/>
            <a:ext cx="449280" cy="7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119640" y="1314360"/>
            <a:ext cx="312840" cy="766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84200" y="2446200"/>
            <a:ext cx="301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録画機能付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S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AS: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ネットワークアクセスサーバ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29160" y="1233360"/>
            <a:ext cx="26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0600" y="1233360"/>
            <a:ext cx="1584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2840" y="1219320"/>
            <a:ext cx="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4760" y="134928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録画機能付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S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テレビ機能の提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録画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写真・データの保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70480" y="206208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パソコ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37080" y="322884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スマ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072120" y="2620800"/>
            <a:ext cx="785880" cy="420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008840" y="2630520"/>
            <a:ext cx="163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無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機能付き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プリ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6160" y="2479680"/>
            <a:ext cx="520560" cy="130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98840" y="2443320"/>
            <a:ext cx="520920" cy="1299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699000" y="868320"/>
            <a:ext cx="566640" cy="1605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348680" y="4100400"/>
            <a:ext cx="1266840" cy="1590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02240" y="4238640"/>
            <a:ext cx="2670120" cy="1568520"/>
          </a:xfrm>
          <a:prstGeom prst="wedgeRectCallout">
            <a:avLst>
              <a:gd name="adj1" fmla="val 62069"/>
              <a:gd name="adj2" fmla="val -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小さなシステムですが、パソコンやスマホでテレビや録画した番組を見ることができます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た、家ではスマホ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f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接続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0" y="4133880"/>
            <a:ext cx="3306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LN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サーバーとの接続は汎用のソフトでできますが、同一メーカーのクライアン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パソコンやスマ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だと専用のソフトで接続や操作が楽にな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F19-1551-4727-92E0-8BDEA6FE3A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27760" y="1373040"/>
            <a:ext cx="486000" cy="48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76360" y="1338120"/>
            <a:ext cx="352440" cy="266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1800" y="2430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構成図サンプ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庭用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492280" y="853920"/>
            <a:ext cx="506520" cy="979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1787040" y="1460520"/>
            <a:ext cx="75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9560" y="1859040"/>
            <a:ext cx="12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無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ルーター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プリ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667480" y="2665440"/>
            <a:ext cx="858600" cy="768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41760" y="2595600"/>
            <a:ext cx="449280" cy="776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94120" y="193824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テレ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ブルーレイレコーダ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60640" y="1262160"/>
            <a:ext cx="415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083360" y="1231920"/>
            <a:ext cx="144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45080" y="342576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パソコ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37500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スマ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209680" y="2693880"/>
            <a:ext cx="785880" cy="420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76560" y="2589120"/>
            <a:ext cx="520920" cy="130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30480" y="896760"/>
            <a:ext cx="566640" cy="1605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08320" y="3890880"/>
            <a:ext cx="3147840" cy="1611360"/>
          </a:xfrm>
          <a:prstGeom prst="wedgeRectCallout">
            <a:avLst>
              <a:gd name="adj1" fmla="val -59129"/>
              <a:gd name="adj2" fmla="val -27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家でも、ここの図にあるような機器があるかもしれません。それらをネットワークで接続した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N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ソフトを用意するだけで、写真や映像をいろいろな機器で共有できて、かなり便利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2640" y="1736640"/>
            <a:ext cx="177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L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光回線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などで接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64640" y="1450800"/>
            <a:ext cx="739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4800600" y="1460520"/>
            <a:ext cx="987480" cy="314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4030560" y="1373040"/>
            <a:ext cx="766800" cy="60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5969160" y="1380960"/>
            <a:ext cx="766440" cy="600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4719600" y="1603440"/>
            <a:ext cx="23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43800" y="1595520"/>
            <a:ext cx="23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3000" y="190332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テレ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据え置きゲーム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6480" y="2459160"/>
            <a:ext cx="520560" cy="1299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80036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8400" y="127800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746280" y="3452760"/>
            <a:ext cx="1266840" cy="2533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97600" y="4060800"/>
            <a:ext cx="2363760" cy="73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ブルーレイレコーダー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LN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サーバーとして写真や映像を保存・配信します。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また据え置き型ゲーム機で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LN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サポートしているか確認しましょ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93D-CB21-4163-9A4C-899B019561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1600" y="3736800"/>
            <a:ext cx="16095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908680" y="1287360"/>
            <a:ext cx="485640" cy="4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63720" y="1222200"/>
            <a:ext cx="352440" cy="266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1800" y="2430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構成図サンプ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庭用本格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979640" y="738360"/>
            <a:ext cx="506520" cy="97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1274400" y="1344600"/>
            <a:ext cx="75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28640" y="1800360"/>
            <a:ext cx="12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無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ルー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910120" y="2608200"/>
            <a:ext cx="858960" cy="768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84760" y="2538360"/>
            <a:ext cx="449280" cy="776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75040" y="185256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テレ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ブルーレイレコーダ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48000" y="1146240"/>
            <a:ext cx="48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49880" y="1131840"/>
            <a:ext cx="1440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88080" y="336852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パソコ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7800" y="331776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スマ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7242120" y="2711520"/>
            <a:ext cx="785880" cy="420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19560" y="2532240"/>
            <a:ext cx="520560" cy="1299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17840" y="781200"/>
            <a:ext cx="566640" cy="1602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08320" y="4051440"/>
            <a:ext cx="3641760" cy="1609560"/>
          </a:xfrm>
          <a:prstGeom prst="wedgeRectCallout">
            <a:avLst>
              <a:gd name="adj1" fmla="val 61680"/>
              <a:gd name="adj2" fmla="val -27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録画機能付き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を追加するだけで、ぐっと本格的なホームネットワークになります。この追加で録画できる番組が増えるとともに、パソコンのファイル等を保存してバックアップしたり、パソコン間で共有することが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20720"/>
            <a:ext cx="177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L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光回線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などで接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2000" y="1335240"/>
            <a:ext cx="739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3881520" y="1374840"/>
            <a:ext cx="987480" cy="31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3111480" y="1287360"/>
            <a:ext cx="766800" cy="600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5049720" y="1295280"/>
            <a:ext cx="766800" cy="600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800520" y="1517760"/>
            <a:ext cx="23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724360" y="1509840"/>
            <a:ext cx="23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73560" y="1817640"/>
            <a:ext cx="210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テレ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据え置きゲーム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29480" y="2401920"/>
            <a:ext cx="520560" cy="130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89320" y="11923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39080" y="2509920"/>
            <a:ext cx="520560" cy="1299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64400" y="313056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無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機能つき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プリ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7164360" y="1282680"/>
            <a:ext cx="255600" cy="627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77120" y="1330200"/>
            <a:ext cx="135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録画機能付き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5600" y="1154160"/>
            <a:ext cx="1404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>
            <a:off x="2406600" y="2614680"/>
            <a:ext cx="1249560" cy="814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00520" y="1131840"/>
            <a:ext cx="14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52800" y="3376440"/>
            <a:ext cx="17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据え置きパソコ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B27-E7C9-4E9C-8B8A-E0AD4DBB0D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86680" y="1287360"/>
            <a:ext cx="485640" cy="48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63720" y="1222200"/>
            <a:ext cx="352440" cy="266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61800" y="2430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構成図サンプ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庭用大規模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979640" y="738360"/>
            <a:ext cx="506520" cy="979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>
            <a:off x="1274400" y="1344600"/>
            <a:ext cx="75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28640" y="1800360"/>
            <a:ext cx="12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無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ルー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792760" y="2739960"/>
            <a:ext cx="858960" cy="768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8035920" y="4108320"/>
            <a:ext cx="449280" cy="776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75040" y="185256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テレ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ブルーレイレコーダ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448000" y="1131840"/>
            <a:ext cx="50515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27880" y="1131840"/>
            <a:ext cx="1404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70720" y="350028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パソコ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94560" y="488808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スマ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7124760" y="2843280"/>
            <a:ext cx="785880" cy="420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775640" y="3941640"/>
            <a:ext cx="520560" cy="130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17840" y="781200"/>
            <a:ext cx="566640" cy="1602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620720"/>
            <a:ext cx="177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L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光回線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などで接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2000" y="1335240"/>
            <a:ext cx="739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3881520" y="1374840"/>
            <a:ext cx="987480" cy="314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3111480" y="1287360"/>
            <a:ext cx="766800" cy="600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5427720" y="1295280"/>
            <a:ext cx="766800" cy="600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H="1">
            <a:off x="3800520" y="1517760"/>
            <a:ext cx="23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102360" y="1509840"/>
            <a:ext cx="23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70520" y="183348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テレ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HDD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据え置きゲーム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11760" y="2533680"/>
            <a:ext cx="520920" cy="130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87880" y="1117440"/>
            <a:ext cx="1440" cy="3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21360" y="2641680"/>
            <a:ext cx="520920" cy="1299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47040" y="326232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無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機能つき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プリ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7250040" y="1298520"/>
            <a:ext cx="459000" cy="627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431120" y="1303200"/>
            <a:ext cx="171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TCP-IP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機能付き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78640" y="1154160"/>
            <a:ext cx="1440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1"/>
          <a:stretch/>
        </p:blipFill>
        <p:spPr>
          <a:xfrm>
            <a:off x="1913040" y="2705040"/>
            <a:ext cx="1249200" cy="814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95280" y="3451320"/>
            <a:ext cx="21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据え置きパソコン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無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子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2408400" y="2390760"/>
            <a:ext cx="352440" cy="266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84440" y="258444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2040" y="2425680"/>
            <a:ext cx="520560" cy="130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89480" y="3193920"/>
            <a:ext cx="21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テレ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ブルーレイレコーダー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無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機能つ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3"/>
          <a:stretch/>
        </p:blipFill>
        <p:spPr>
          <a:xfrm>
            <a:off x="4395960" y="2716200"/>
            <a:ext cx="987120" cy="314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4"/>
          <a:stretch/>
        </p:blipFill>
        <p:spPr>
          <a:xfrm>
            <a:off x="3625920" y="2629080"/>
            <a:ext cx="766800" cy="599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>
            <a:off x="4314600" y="2859120"/>
            <a:ext cx="231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2496960"/>
            <a:ext cx="520920" cy="130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62520" y="1146240"/>
            <a:ext cx="144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5"/>
          <a:stretch/>
        </p:blipFill>
        <p:spPr>
          <a:xfrm>
            <a:off x="5138640" y="1311120"/>
            <a:ext cx="155520" cy="459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H="1">
            <a:off x="5238720" y="1503360"/>
            <a:ext cx="23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6"/>
          <a:stretch/>
        </p:blipFill>
        <p:spPr>
          <a:xfrm>
            <a:off x="6762600" y="4297320"/>
            <a:ext cx="733680" cy="330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751800" y="4006800"/>
            <a:ext cx="520560" cy="130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41920" y="4648320"/>
            <a:ext cx="12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携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ゲーム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7"/>
          <a:stretch/>
        </p:blipFill>
        <p:spPr>
          <a:xfrm>
            <a:off x="5318280" y="4159080"/>
            <a:ext cx="1066680" cy="628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554800" y="3968640"/>
            <a:ext cx="520560" cy="1303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37280" y="489420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タブレッ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8"/>
          <a:stretch/>
        </p:blipFill>
        <p:spPr>
          <a:xfrm>
            <a:off x="254160" y="4133880"/>
            <a:ext cx="1600200" cy="2301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71640" y="4237200"/>
            <a:ext cx="2887560" cy="2307960"/>
          </a:xfrm>
          <a:prstGeom prst="wedgeRectCallout">
            <a:avLst>
              <a:gd name="adj1" fmla="val -61268"/>
              <a:gd name="adj2" fmla="val -265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最近の携帯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機器は、ほとんど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F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接続ができます。これらもホームネットワークに接続できます。同様にブルーレイレコーダーなど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機器も高速の無線接続に対応したものが増えてきていて、離れた部屋の機器も簡単に接続できるようになってきて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97600" y="5351400"/>
            <a:ext cx="32335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高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接続が接続機器の台数が増えると、電波の干渉などで速度が十分でないことがあります。使用する無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モードなど注意する必要があ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87B4-8084-43AF-ACA8-0BFF51E5E8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3:08:44Z</dcterms:created>
  <dc:creator>Owner</dc:creator>
  <dc:description/>
  <dc:language>en-US</dc:language>
  <cp:lastModifiedBy>Owner</cp:lastModifiedBy>
  <dcterms:modified xsi:type="dcterms:W3CDTF">2014-12-17T19:26:42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