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1B-8D5A-4115-8EC0-4B9F2E2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DD3-CD2F-42A0-8D23-F6C2E76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801-8E5C-4235-B35E-3D103496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3CF-4879-4A8C-BF2E-3DB54CC5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D93-E4C9-4987-89F3-C2F5C11E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BBF7-0140-4067-9F19-5227EDA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DC7-1D43-460B-819C-CBFF19F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209-9170-4D0C-AAEC-103FF98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92D-74B2-4E2B-9565-407A2D5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F274-CD59-4525-BBCE-97893D1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725F-570D-41A4-B697-7547809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C4F-4E49-4632-B3B4-8DC107A3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6AB3-4472-4102-B547-F177171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3228-0CCF-4A8E-ACB3-8B1B1955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F42-CA2A-4361-8FF2-00ECC420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0E0-7702-4DF5-AE6C-E7FC160E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32E-9437-45F9-8501-FF132F6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27F-2C7F-440D-A26E-5A35703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91B-C61D-48AF-B7BC-E41C2DEC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99F-AF93-472A-8F71-3905C3E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55A-B944-47BF-9423-BBAE281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E4B-00F0-4E42-84F0-E91ED10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704-DC66-4B0A-961B-7130013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215-70CA-43EC-B409-BB0E484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1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451a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451aa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451aa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B70-44E2-4AFF-907F-1F50E8249E33}" type="slidenum"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sp>
          <p:nvSpPr>
            <p:cNvPr id="50" name=""/>
            <p:cNvSpPr/>
            <p:nvPr/>
          </p:nvSpPr>
          <p:spPr>
            <a:xfrm>
              <a:off x="0" y="525600"/>
              <a:ext cx="9144000" cy="5279760"/>
            </a:xfrm>
            <a:prstGeom prst="rect">
              <a:avLst/>
            </a:prstGeom>
            <a:gradFill rotWithShape="0">
              <a:gsLst>
                <a:gs pos="0">
                  <a:srgbClr val="b9cce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4000" cy="557280"/>
            </a:xfrm>
            <a:prstGeom prst="rect">
              <a:avLst/>
            </a:prstGeom>
            <a:gradFill rotWithShape="0">
              <a:gsLst>
                <a:gs pos="0">
                  <a:srgbClr val="6b94d1"/>
                </a:gs>
                <a:gs pos="100000">
                  <a:srgbClr val="b9cc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533680"/>
              <a:ext cx="9144000" cy="2620800"/>
            </a:xfrm>
            <a:custGeom>
              <a:avLst/>
              <a:gdLst/>
              <a:ahLst/>
              <a:rect l="l" t="t" r="r" b="b"/>
              <a:pathLst>
                <a:path w="5760" h="1651">
                  <a:moveTo>
                    <a:pt x="0" y="960"/>
                  </a:moveTo>
                  <a:cubicBezTo>
                    <a:pt x="237" y="952"/>
                    <a:pt x="517" y="913"/>
                    <a:pt x="773" y="852"/>
                  </a:cubicBezTo>
                  <a:cubicBezTo>
                    <a:pt x="1029" y="791"/>
                    <a:pt x="1259" y="710"/>
                    <a:pt x="1536" y="594"/>
                  </a:cubicBezTo>
                  <a:cubicBezTo>
                    <a:pt x="1814" y="478"/>
                    <a:pt x="2247" y="251"/>
                    <a:pt x="2438" y="156"/>
                  </a:cubicBezTo>
                  <a:cubicBezTo>
                    <a:pt x="2628" y="61"/>
                    <a:pt x="2615" y="45"/>
                    <a:pt x="2678" y="24"/>
                  </a:cubicBezTo>
                  <a:cubicBezTo>
                    <a:pt x="2741" y="3"/>
                    <a:pt x="2783" y="34"/>
                    <a:pt x="2816" y="30"/>
                  </a:cubicBezTo>
                  <a:cubicBezTo>
                    <a:pt x="2849" y="26"/>
                    <a:pt x="2840" y="0"/>
                    <a:pt x="2876" y="0"/>
                  </a:cubicBezTo>
                  <a:cubicBezTo>
                    <a:pt x="2912" y="0"/>
                    <a:pt x="2997" y="28"/>
                    <a:pt x="3032" y="30"/>
                  </a:cubicBezTo>
                  <a:cubicBezTo>
                    <a:pt x="3067" y="32"/>
                    <a:pt x="3061" y="10"/>
                    <a:pt x="3086" y="12"/>
                  </a:cubicBezTo>
                  <a:cubicBezTo>
                    <a:pt x="3112" y="14"/>
                    <a:pt x="3142" y="24"/>
                    <a:pt x="3183" y="42"/>
                  </a:cubicBezTo>
                  <a:cubicBezTo>
                    <a:pt x="3224" y="60"/>
                    <a:pt x="3283" y="88"/>
                    <a:pt x="3333" y="120"/>
                  </a:cubicBezTo>
                  <a:cubicBezTo>
                    <a:pt x="3383" y="152"/>
                    <a:pt x="3415" y="188"/>
                    <a:pt x="3483" y="234"/>
                  </a:cubicBezTo>
                  <a:cubicBezTo>
                    <a:pt x="3551" y="280"/>
                    <a:pt x="3629" y="329"/>
                    <a:pt x="3741" y="396"/>
                  </a:cubicBezTo>
                  <a:cubicBezTo>
                    <a:pt x="3854" y="463"/>
                    <a:pt x="4028" y="574"/>
                    <a:pt x="4156" y="636"/>
                  </a:cubicBezTo>
                  <a:cubicBezTo>
                    <a:pt x="4284" y="698"/>
                    <a:pt x="4384" y="723"/>
                    <a:pt x="4510" y="768"/>
                  </a:cubicBezTo>
                  <a:cubicBezTo>
                    <a:pt x="4637" y="813"/>
                    <a:pt x="4781" y="855"/>
                    <a:pt x="4913" y="906"/>
                  </a:cubicBezTo>
                  <a:cubicBezTo>
                    <a:pt x="5045" y="957"/>
                    <a:pt x="5163" y="1033"/>
                    <a:pt x="5304" y="1074"/>
                  </a:cubicBezTo>
                  <a:cubicBezTo>
                    <a:pt x="5445" y="1115"/>
                    <a:pt x="5543" y="1125"/>
                    <a:pt x="5760" y="1150"/>
                  </a:cubicBezTo>
                  <a:cubicBezTo>
                    <a:pt x="5760" y="1400"/>
                    <a:pt x="5760" y="1651"/>
                    <a:pt x="5760" y="1651"/>
                  </a:cubicBezTo>
                  <a:lnTo>
                    <a:pt x="0" y="1651"/>
                  </a:lnTo>
                  <a:lnTo>
                    <a:pt x="0" y="960"/>
                  </a:lnTo>
                  <a:close/>
                </a:path>
              </a:pathLst>
            </a:custGeom>
            <a:gradFill rotWithShape="0">
              <a:gsLst>
                <a:gs pos="0">
                  <a:srgbClr val="c0d7d8"/>
                </a:gs>
                <a:gs pos="100000">
                  <a:srgbClr val="7f8e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360" y="2535120"/>
              <a:ext cx="3960720" cy="1673280"/>
            </a:xfrm>
            <a:custGeom>
              <a:avLst/>
              <a:gdLst/>
              <a:ahLst/>
              <a:rect l="l" t="t" r="r" b="b"/>
              <a:pathLst>
                <a:path w="2495" h="1054">
                  <a:moveTo>
                    <a:pt x="135" y="902"/>
                  </a:moveTo>
                  <a:cubicBezTo>
                    <a:pt x="270" y="859"/>
                    <a:pt x="683" y="732"/>
                    <a:pt x="909" y="650"/>
                  </a:cubicBezTo>
                  <a:cubicBezTo>
                    <a:pt x="1135" y="568"/>
                    <a:pt x="1305" y="499"/>
                    <a:pt x="1491" y="410"/>
                  </a:cubicBezTo>
                  <a:cubicBezTo>
                    <a:pt x="1677" y="321"/>
                    <a:pt x="1911" y="179"/>
                    <a:pt x="2028" y="116"/>
                  </a:cubicBezTo>
                  <a:cubicBezTo>
                    <a:pt x="2145" y="53"/>
                    <a:pt x="2156" y="48"/>
                    <a:pt x="2193" y="32"/>
                  </a:cubicBezTo>
                  <a:cubicBezTo>
                    <a:pt x="2230" y="16"/>
                    <a:pt x="2238" y="22"/>
                    <a:pt x="2253" y="20"/>
                  </a:cubicBezTo>
                  <a:cubicBezTo>
                    <a:pt x="2268" y="18"/>
                    <a:pt x="2278" y="22"/>
                    <a:pt x="2286" y="20"/>
                  </a:cubicBezTo>
                  <a:cubicBezTo>
                    <a:pt x="2294" y="18"/>
                    <a:pt x="2296" y="10"/>
                    <a:pt x="2304" y="8"/>
                  </a:cubicBezTo>
                  <a:cubicBezTo>
                    <a:pt x="2312" y="6"/>
                    <a:pt x="2320" y="6"/>
                    <a:pt x="2334" y="8"/>
                  </a:cubicBezTo>
                  <a:cubicBezTo>
                    <a:pt x="2348" y="10"/>
                    <a:pt x="2372" y="21"/>
                    <a:pt x="2388" y="20"/>
                  </a:cubicBezTo>
                  <a:cubicBezTo>
                    <a:pt x="2404" y="19"/>
                    <a:pt x="2416" y="4"/>
                    <a:pt x="2433" y="2"/>
                  </a:cubicBezTo>
                  <a:cubicBezTo>
                    <a:pt x="2450" y="0"/>
                    <a:pt x="2485" y="4"/>
                    <a:pt x="2490" y="8"/>
                  </a:cubicBezTo>
                  <a:cubicBezTo>
                    <a:pt x="2495" y="12"/>
                    <a:pt x="2474" y="17"/>
                    <a:pt x="2463" y="26"/>
                  </a:cubicBezTo>
                  <a:cubicBezTo>
                    <a:pt x="2452" y="35"/>
                    <a:pt x="2437" y="47"/>
                    <a:pt x="2424" y="62"/>
                  </a:cubicBezTo>
                  <a:cubicBezTo>
                    <a:pt x="2411" y="77"/>
                    <a:pt x="2397" y="103"/>
                    <a:pt x="2385" y="119"/>
                  </a:cubicBezTo>
                  <a:cubicBezTo>
                    <a:pt x="2373" y="135"/>
                    <a:pt x="2358" y="149"/>
                    <a:pt x="2349" y="158"/>
                  </a:cubicBezTo>
                  <a:cubicBezTo>
                    <a:pt x="2340" y="167"/>
                    <a:pt x="2340" y="172"/>
                    <a:pt x="2331" y="176"/>
                  </a:cubicBezTo>
                  <a:cubicBezTo>
                    <a:pt x="2322" y="180"/>
                    <a:pt x="2303" y="174"/>
                    <a:pt x="2295" y="182"/>
                  </a:cubicBezTo>
                  <a:cubicBezTo>
                    <a:pt x="2287" y="190"/>
                    <a:pt x="2284" y="216"/>
                    <a:pt x="2280" y="227"/>
                  </a:cubicBezTo>
                  <a:cubicBezTo>
                    <a:pt x="2276" y="238"/>
                    <a:pt x="2268" y="245"/>
                    <a:pt x="2271" y="251"/>
                  </a:cubicBezTo>
                  <a:cubicBezTo>
                    <a:pt x="2274" y="257"/>
                    <a:pt x="2293" y="253"/>
                    <a:pt x="2298" y="266"/>
                  </a:cubicBezTo>
                  <a:cubicBezTo>
                    <a:pt x="2303" y="279"/>
                    <a:pt x="2309" y="319"/>
                    <a:pt x="2304" y="332"/>
                  </a:cubicBezTo>
                  <a:cubicBezTo>
                    <a:pt x="2299" y="345"/>
                    <a:pt x="2273" y="345"/>
                    <a:pt x="2265" y="344"/>
                  </a:cubicBezTo>
                  <a:cubicBezTo>
                    <a:pt x="2257" y="343"/>
                    <a:pt x="2258" y="326"/>
                    <a:pt x="2253" y="326"/>
                  </a:cubicBezTo>
                  <a:cubicBezTo>
                    <a:pt x="2248" y="326"/>
                    <a:pt x="2236" y="337"/>
                    <a:pt x="2232" y="347"/>
                  </a:cubicBezTo>
                  <a:cubicBezTo>
                    <a:pt x="2228" y="357"/>
                    <a:pt x="2228" y="376"/>
                    <a:pt x="2226" y="386"/>
                  </a:cubicBezTo>
                  <a:cubicBezTo>
                    <a:pt x="2224" y="396"/>
                    <a:pt x="2236" y="390"/>
                    <a:pt x="2220" y="407"/>
                  </a:cubicBezTo>
                  <a:cubicBezTo>
                    <a:pt x="2204" y="424"/>
                    <a:pt x="2157" y="463"/>
                    <a:pt x="2130" y="491"/>
                  </a:cubicBezTo>
                  <a:cubicBezTo>
                    <a:pt x="2103" y="519"/>
                    <a:pt x="2083" y="539"/>
                    <a:pt x="2058" y="575"/>
                  </a:cubicBezTo>
                  <a:cubicBezTo>
                    <a:pt x="2033" y="611"/>
                    <a:pt x="1998" y="679"/>
                    <a:pt x="1980" y="710"/>
                  </a:cubicBezTo>
                  <a:cubicBezTo>
                    <a:pt x="1962" y="741"/>
                    <a:pt x="1966" y="756"/>
                    <a:pt x="1950" y="764"/>
                  </a:cubicBezTo>
                  <a:cubicBezTo>
                    <a:pt x="1934" y="772"/>
                    <a:pt x="1906" y="756"/>
                    <a:pt x="1884" y="758"/>
                  </a:cubicBezTo>
                  <a:cubicBezTo>
                    <a:pt x="1862" y="760"/>
                    <a:pt x="1832" y="762"/>
                    <a:pt x="1815" y="776"/>
                  </a:cubicBezTo>
                  <a:cubicBezTo>
                    <a:pt x="1798" y="790"/>
                    <a:pt x="1800" y="826"/>
                    <a:pt x="1782" y="845"/>
                  </a:cubicBezTo>
                  <a:cubicBezTo>
                    <a:pt x="1764" y="864"/>
                    <a:pt x="1730" y="871"/>
                    <a:pt x="1704" y="890"/>
                  </a:cubicBezTo>
                  <a:cubicBezTo>
                    <a:pt x="1678" y="909"/>
                    <a:pt x="1657" y="942"/>
                    <a:pt x="1629" y="959"/>
                  </a:cubicBezTo>
                  <a:cubicBezTo>
                    <a:pt x="1601" y="976"/>
                    <a:pt x="1561" y="980"/>
                    <a:pt x="1533" y="995"/>
                  </a:cubicBezTo>
                  <a:cubicBezTo>
                    <a:pt x="1505" y="1010"/>
                    <a:pt x="1469" y="1050"/>
                    <a:pt x="1458" y="1052"/>
                  </a:cubicBezTo>
                  <a:cubicBezTo>
                    <a:pt x="1447" y="1054"/>
                    <a:pt x="1450" y="1027"/>
                    <a:pt x="1467" y="1007"/>
                  </a:cubicBezTo>
                  <a:cubicBezTo>
                    <a:pt x="1484" y="987"/>
                    <a:pt x="1533" y="955"/>
                    <a:pt x="1560" y="932"/>
                  </a:cubicBezTo>
                  <a:cubicBezTo>
                    <a:pt x="1587" y="909"/>
                    <a:pt x="1606" y="893"/>
                    <a:pt x="1629" y="866"/>
                  </a:cubicBezTo>
                  <a:cubicBezTo>
                    <a:pt x="1652" y="839"/>
                    <a:pt x="1687" y="796"/>
                    <a:pt x="1701" y="770"/>
                  </a:cubicBezTo>
                  <a:cubicBezTo>
                    <a:pt x="1715" y="744"/>
                    <a:pt x="1699" y="731"/>
                    <a:pt x="1713" y="710"/>
                  </a:cubicBezTo>
                  <a:cubicBezTo>
                    <a:pt x="1727" y="689"/>
                    <a:pt x="1759" y="671"/>
                    <a:pt x="1785" y="644"/>
                  </a:cubicBezTo>
                  <a:cubicBezTo>
                    <a:pt x="1811" y="617"/>
                    <a:pt x="1844" y="573"/>
                    <a:pt x="1869" y="545"/>
                  </a:cubicBezTo>
                  <a:cubicBezTo>
                    <a:pt x="1894" y="517"/>
                    <a:pt x="1918" y="500"/>
                    <a:pt x="1935" y="476"/>
                  </a:cubicBezTo>
                  <a:cubicBezTo>
                    <a:pt x="1952" y="452"/>
                    <a:pt x="1955" y="422"/>
                    <a:pt x="1971" y="401"/>
                  </a:cubicBezTo>
                  <a:cubicBezTo>
                    <a:pt x="1987" y="380"/>
                    <a:pt x="2019" y="364"/>
                    <a:pt x="2034" y="350"/>
                  </a:cubicBezTo>
                  <a:cubicBezTo>
                    <a:pt x="2049" y="336"/>
                    <a:pt x="2064" y="318"/>
                    <a:pt x="2061" y="314"/>
                  </a:cubicBezTo>
                  <a:cubicBezTo>
                    <a:pt x="2058" y="310"/>
                    <a:pt x="2031" y="314"/>
                    <a:pt x="2016" y="323"/>
                  </a:cubicBezTo>
                  <a:cubicBezTo>
                    <a:pt x="2001" y="332"/>
                    <a:pt x="1982" y="350"/>
                    <a:pt x="1971" y="368"/>
                  </a:cubicBezTo>
                  <a:cubicBezTo>
                    <a:pt x="1960" y="386"/>
                    <a:pt x="1960" y="412"/>
                    <a:pt x="1947" y="434"/>
                  </a:cubicBezTo>
                  <a:cubicBezTo>
                    <a:pt x="1934" y="456"/>
                    <a:pt x="1914" y="475"/>
                    <a:pt x="1893" y="500"/>
                  </a:cubicBezTo>
                  <a:cubicBezTo>
                    <a:pt x="1872" y="525"/>
                    <a:pt x="1841" y="565"/>
                    <a:pt x="1821" y="587"/>
                  </a:cubicBezTo>
                  <a:cubicBezTo>
                    <a:pt x="1801" y="609"/>
                    <a:pt x="1790" y="619"/>
                    <a:pt x="1770" y="632"/>
                  </a:cubicBezTo>
                  <a:cubicBezTo>
                    <a:pt x="1750" y="645"/>
                    <a:pt x="1727" y="647"/>
                    <a:pt x="1704" y="662"/>
                  </a:cubicBezTo>
                  <a:cubicBezTo>
                    <a:pt x="1681" y="677"/>
                    <a:pt x="1646" y="709"/>
                    <a:pt x="1632" y="725"/>
                  </a:cubicBezTo>
                  <a:cubicBezTo>
                    <a:pt x="1618" y="741"/>
                    <a:pt x="1627" y="754"/>
                    <a:pt x="1620" y="761"/>
                  </a:cubicBezTo>
                  <a:cubicBezTo>
                    <a:pt x="1613" y="768"/>
                    <a:pt x="1593" y="775"/>
                    <a:pt x="1587" y="770"/>
                  </a:cubicBezTo>
                  <a:cubicBezTo>
                    <a:pt x="1581" y="765"/>
                    <a:pt x="1566" y="749"/>
                    <a:pt x="1584" y="728"/>
                  </a:cubicBezTo>
                  <a:cubicBezTo>
                    <a:pt x="1602" y="707"/>
                    <a:pt x="1668" y="665"/>
                    <a:pt x="1692" y="641"/>
                  </a:cubicBezTo>
                  <a:cubicBezTo>
                    <a:pt x="1716" y="617"/>
                    <a:pt x="1714" y="599"/>
                    <a:pt x="1731" y="581"/>
                  </a:cubicBezTo>
                  <a:cubicBezTo>
                    <a:pt x="1748" y="563"/>
                    <a:pt x="1774" y="552"/>
                    <a:pt x="1794" y="533"/>
                  </a:cubicBezTo>
                  <a:cubicBezTo>
                    <a:pt x="1814" y="514"/>
                    <a:pt x="1837" y="482"/>
                    <a:pt x="1851" y="467"/>
                  </a:cubicBezTo>
                  <a:cubicBezTo>
                    <a:pt x="1865" y="452"/>
                    <a:pt x="1874" y="452"/>
                    <a:pt x="1878" y="443"/>
                  </a:cubicBezTo>
                  <a:cubicBezTo>
                    <a:pt x="1882" y="434"/>
                    <a:pt x="1882" y="413"/>
                    <a:pt x="1875" y="413"/>
                  </a:cubicBezTo>
                  <a:cubicBezTo>
                    <a:pt x="1868" y="413"/>
                    <a:pt x="1847" y="426"/>
                    <a:pt x="1833" y="443"/>
                  </a:cubicBezTo>
                  <a:cubicBezTo>
                    <a:pt x="1819" y="460"/>
                    <a:pt x="1804" y="495"/>
                    <a:pt x="1788" y="515"/>
                  </a:cubicBezTo>
                  <a:cubicBezTo>
                    <a:pt x="1772" y="535"/>
                    <a:pt x="1751" y="550"/>
                    <a:pt x="1734" y="566"/>
                  </a:cubicBezTo>
                  <a:cubicBezTo>
                    <a:pt x="1717" y="582"/>
                    <a:pt x="1704" y="595"/>
                    <a:pt x="1689" y="611"/>
                  </a:cubicBezTo>
                  <a:cubicBezTo>
                    <a:pt x="1674" y="627"/>
                    <a:pt x="1655" y="656"/>
                    <a:pt x="1641" y="665"/>
                  </a:cubicBezTo>
                  <a:cubicBezTo>
                    <a:pt x="1627" y="674"/>
                    <a:pt x="1609" y="674"/>
                    <a:pt x="1605" y="665"/>
                  </a:cubicBezTo>
                  <a:cubicBezTo>
                    <a:pt x="1601" y="656"/>
                    <a:pt x="1603" y="627"/>
                    <a:pt x="1617" y="608"/>
                  </a:cubicBezTo>
                  <a:cubicBezTo>
                    <a:pt x="1631" y="589"/>
                    <a:pt x="1672" y="560"/>
                    <a:pt x="1689" y="548"/>
                  </a:cubicBezTo>
                  <a:cubicBezTo>
                    <a:pt x="1706" y="536"/>
                    <a:pt x="1713" y="540"/>
                    <a:pt x="1722" y="533"/>
                  </a:cubicBezTo>
                  <a:cubicBezTo>
                    <a:pt x="1731" y="526"/>
                    <a:pt x="1752" y="507"/>
                    <a:pt x="1746" y="506"/>
                  </a:cubicBezTo>
                  <a:cubicBezTo>
                    <a:pt x="1740" y="505"/>
                    <a:pt x="1711" y="513"/>
                    <a:pt x="1686" y="530"/>
                  </a:cubicBezTo>
                  <a:cubicBezTo>
                    <a:pt x="1661" y="547"/>
                    <a:pt x="1617" y="587"/>
                    <a:pt x="1596" y="611"/>
                  </a:cubicBezTo>
                  <a:cubicBezTo>
                    <a:pt x="1575" y="635"/>
                    <a:pt x="1569" y="661"/>
                    <a:pt x="1560" y="674"/>
                  </a:cubicBezTo>
                  <a:cubicBezTo>
                    <a:pt x="1551" y="687"/>
                    <a:pt x="1549" y="694"/>
                    <a:pt x="1542" y="689"/>
                  </a:cubicBezTo>
                  <a:cubicBezTo>
                    <a:pt x="1535" y="684"/>
                    <a:pt x="1525" y="650"/>
                    <a:pt x="1518" y="641"/>
                  </a:cubicBezTo>
                  <a:cubicBezTo>
                    <a:pt x="1511" y="632"/>
                    <a:pt x="1496" y="639"/>
                    <a:pt x="1500" y="632"/>
                  </a:cubicBezTo>
                  <a:cubicBezTo>
                    <a:pt x="1504" y="625"/>
                    <a:pt x="1527" y="607"/>
                    <a:pt x="1542" y="596"/>
                  </a:cubicBezTo>
                  <a:cubicBezTo>
                    <a:pt x="1557" y="585"/>
                    <a:pt x="1571" y="574"/>
                    <a:pt x="1590" y="563"/>
                  </a:cubicBezTo>
                  <a:cubicBezTo>
                    <a:pt x="1609" y="552"/>
                    <a:pt x="1637" y="541"/>
                    <a:pt x="1656" y="527"/>
                  </a:cubicBezTo>
                  <a:cubicBezTo>
                    <a:pt x="1675" y="513"/>
                    <a:pt x="1692" y="489"/>
                    <a:pt x="1704" y="476"/>
                  </a:cubicBezTo>
                  <a:cubicBezTo>
                    <a:pt x="1716" y="463"/>
                    <a:pt x="1735" y="451"/>
                    <a:pt x="1728" y="452"/>
                  </a:cubicBezTo>
                  <a:cubicBezTo>
                    <a:pt x="1721" y="453"/>
                    <a:pt x="1673" y="473"/>
                    <a:pt x="1659" y="485"/>
                  </a:cubicBezTo>
                  <a:cubicBezTo>
                    <a:pt x="1645" y="497"/>
                    <a:pt x="1652" y="517"/>
                    <a:pt x="1641" y="524"/>
                  </a:cubicBezTo>
                  <a:cubicBezTo>
                    <a:pt x="1630" y="531"/>
                    <a:pt x="1608" y="518"/>
                    <a:pt x="1596" y="524"/>
                  </a:cubicBezTo>
                  <a:cubicBezTo>
                    <a:pt x="1584" y="530"/>
                    <a:pt x="1583" y="554"/>
                    <a:pt x="1572" y="560"/>
                  </a:cubicBezTo>
                  <a:cubicBezTo>
                    <a:pt x="1561" y="566"/>
                    <a:pt x="1541" y="553"/>
                    <a:pt x="1530" y="560"/>
                  </a:cubicBezTo>
                  <a:cubicBezTo>
                    <a:pt x="1519" y="567"/>
                    <a:pt x="1516" y="594"/>
                    <a:pt x="1506" y="605"/>
                  </a:cubicBezTo>
                  <a:cubicBezTo>
                    <a:pt x="1496" y="616"/>
                    <a:pt x="1481" y="611"/>
                    <a:pt x="1470" y="623"/>
                  </a:cubicBezTo>
                  <a:cubicBezTo>
                    <a:pt x="1459" y="635"/>
                    <a:pt x="1448" y="671"/>
                    <a:pt x="1437" y="677"/>
                  </a:cubicBezTo>
                  <a:cubicBezTo>
                    <a:pt x="1426" y="683"/>
                    <a:pt x="1406" y="671"/>
                    <a:pt x="1401" y="662"/>
                  </a:cubicBezTo>
                  <a:cubicBezTo>
                    <a:pt x="1396" y="653"/>
                    <a:pt x="1410" y="623"/>
                    <a:pt x="1404" y="623"/>
                  </a:cubicBezTo>
                  <a:cubicBezTo>
                    <a:pt x="1398" y="623"/>
                    <a:pt x="1384" y="656"/>
                    <a:pt x="1362" y="665"/>
                  </a:cubicBezTo>
                  <a:cubicBezTo>
                    <a:pt x="1340" y="674"/>
                    <a:pt x="1288" y="682"/>
                    <a:pt x="1272" y="680"/>
                  </a:cubicBezTo>
                  <a:cubicBezTo>
                    <a:pt x="1256" y="678"/>
                    <a:pt x="1268" y="660"/>
                    <a:pt x="1263" y="653"/>
                  </a:cubicBezTo>
                  <a:cubicBezTo>
                    <a:pt x="1258" y="646"/>
                    <a:pt x="1253" y="636"/>
                    <a:pt x="1242" y="638"/>
                  </a:cubicBezTo>
                  <a:cubicBezTo>
                    <a:pt x="1231" y="640"/>
                    <a:pt x="1224" y="654"/>
                    <a:pt x="1194" y="668"/>
                  </a:cubicBezTo>
                  <a:cubicBezTo>
                    <a:pt x="1164" y="682"/>
                    <a:pt x="1111" y="702"/>
                    <a:pt x="1059" y="722"/>
                  </a:cubicBezTo>
                  <a:cubicBezTo>
                    <a:pt x="1007" y="742"/>
                    <a:pt x="950" y="763"/>
                    <a:pt x="879" y="788"/>
                  </a:cubicBezTo>
                  <a:cubicBezTo>
                    <a:pt x="808" y="813"/>
                    <a:pt x="698" y="853"/>
                    <a:pt x="633" y="875"/>
                  </a:cubicBezTo>
                  <a:cubicBezTo>
                    <a:pt x="568" y="897"/>
                    <a:pt x="513" y="914"/>
                    <a:pt x="492" y="917"/>
                  </a:cubicBezTo>
                  <a:cubicBezTo>
                    <a:pt x="471" y="920"/>
                    <a:pt x="477" y="904"/>
                    <a:pt x="504" y="893"/>
                  </a:cubicBezTo>
                  <a:cubicBezTo>
                    <a:pt x="531" y="882"/>
                    <a:pt x="602" y="869"/>
                    <a:pt x="657" y="851"/>
                  </a:cubicBezTo>
                  <a:cubicBezTo>
                    <a:pt x="712" y="833"/>
                    <a:pt x="774" y="807"/>
                    <a:pt x="837" y="785"/>
                  </a:cubicBezTo>
                  <a:cubicBezTo>
                    <a:pt x="900" y="763"/>
                    <a:pt x="994" y="733"/>
                    <a:pt x="1035" y="716"/>
                  </a:cubicBezTo>
                  <a:cubicBezTo>
                    <a:pt x="1076" y="699"/>
                    <a:pt x="1079" y="690"/>
                    <a:pt x="1083" y="686"/>
                  </a:cubicBezTo>
                  <a:cubicBezTo>
                    <a:pt x="1087" y="682"/>
                    <a:pt x="1091" y="679"/>
                    <a:pt x="1062" y="689"/>
                  </a:cubicBezTo>
                  <a:cubicBezTo>
                    <a:pt x="1033" y="699"/>
                    <a:pt x="964" y="727"/>
                    <a:pt x="906" y="746"/>
                  </a:cubicBezTo>
                  <a:cubicBezTo>
                    <a:pt x="848" y="765"/>
                    <a:pt x="779" y="788"/>
                    <a:pt x="714" y="806"/>
                  </a:cubicBezTo>
                  <a:cubicBezTo>
                    <a:pt x="649" y="824"/>
                    <a:pt x="584" y="838"/>
                    <a:pt x="513" y="854"/>
                  </a:cubicBezTo>
                  <a:cubicBezTo>
                    <a:pt x="442" y="870"/>
                    <a:pt x="344" y="893"/>
                    <a:pt x="288" y="905"/>
                  </a:cubicBezTo>
                  <a:cubicBezTo>
                    <a:pt x="232" y="917"/>
                    <a:pt x="190" y="926"/>
                    <a:pt x="177" y="926"/>
                  </a:cubicBezTo>
                  <a:cubicBezTo>
                    <a:pt x="164" y="926"/>
                    <a:pt x="208" y="904"/>
                    <a:pt x="207" y="902"/>
                  </a:cubicBezTo>
                  <a:cubicBezTo>
                    <a:pt x="206" y="900"/>
                    <a:pt x="188" y="907"/>
                    <a:pt x="168" y="911"/>
                  </a:cubicBezTo>
                  <a:cubicBezTo>
                    <a:pt x="148" y="915"/>
                    <a:pt x="95" y="929"/>
                    <a:pt x="84" y="929"/>
                  </a:cubicBezTo>
                  <a:cubicBezTo>
                    <a:pt x="73" y="929"/>
                    <a:pt x="91" y="912"/>
                    <a:pt x="99" y="908"/>
                  </a:cubicBezTo>
                  <a:cubicBezTo>
                    <a:pt x="107" y="904"/>
                    <a:pt x="0" y="945"/>
                    <a:pt x="135" y="90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83000" y="2511360"/>
              <a:ext cx="1730520" cy="1498680"/>
            </a:xfrm>
            <a:custGeom>
              <a:avLst/>
              <a:gdLst/>
              <a:ahLst/>
              <a:rect l="l" t="t" r="r" b="b"/>
              <a:pathLst>
                <a:path w="1090" h="944">
                  <a:moveTo>
                    <a:pt x="220" y="44"/>
                  </a:moveTo>
                  <a:cubicBezTo>
                    <a:pt x="214" y="39"/>
                    <a:pt x="250" y="35"/>
                    <a:pt x="262" y="29"/>
                  </a:cubicBezTo>
                  <a:cubicBezTo>
                    <a:pt x="274" y="23"/>
                    <a:pt x="284" y="9"/>
                    <a:pt x="292" y="5"/>
                  </a:cubicBezTo>
                  <a:cubicBezTo>
                    <a:pt x="300" y="1"/>
                    <a:pt x="299" y="0"/>
                    <a:pt x="310" y="5"/>
                  </a:cubicBezTo>
                  <a:cubicBezTo>
                    <a:pt x="321" y="10"/>
                    <a:pt x="341" y="23"/>
                    <a:pt x="358" y="35"/>
                  </a:cubicBezTo>
                  <a:cubicBezTo>
                    <a:pt x="375" y="47"/>
                    <a:pt x="402" y="64"/>
                    <a:pt x="415" y="80"/>
                  </a:cubicBezTo>
                  <a:cubicBezTo>
                    <a:pt x="428" y="96"/>
                    <a:pt x="436" y="114"/>
                    <a:pt x="436" y="128"/>
                  </a:cubicBezTo>
                  <a:cubicBezTo>
                    <a:pt x="436" y="142"/>
                    <a:pt x="414" y="155"/>
                    <a:pt x="415" y="164"/>
                  </a:cubicBezTo>
                  <a:cubicBezTo>
                    <a:pt x="416" y="173"/>
                    <a:pt x="441" y="172"/>
                    <a:pt x="445" y="185"/>
                  </a:cubicBezTo>
                  <a:cubicBezTo>
                    <a:pt x="449" y="198"/>
                    <a:pt x="431" y="226"/>
                    <a:pt x="439" y="239"/>
                  </a:cubicBezTo>
                  <a:cubicBezTo>
                    <a:pt x="447" y="252"/>
                    <a:pt x="475" y="262"/>
                    <a:pt x="490" y="266"/>
                  </a:cubicBezTo>
                  <a:cubicBezTo>
                    <a:pt x="505" y="270"/>
                    <a:pt x="517" y="256"/>
                    <a:pt x="532" y="266"/>
                  </a:cubicBezTo>
                  <a:cubicBezTo>
                    <a:pt x="547" y="276"/>
                    <a:pt x="575" y="314"/>
                    <a:pt x="577" y="326"/>
                  </a:cubicBezTo>
                  <a:cubicBezTo>
                    <a:pt x="579" y="338"/>
                    <a:pt x="546" y="331"/>
                    <a:pt x="544" y="338"/>
                  </a:cubicBezTo>
                  <a:cubicBezTo>
                    <a:pt x="542" y="345"/>
                    <a:pt x="545" y="356"/>
                    <a:pt x="562" y="371"/>
                  </a:cubicBezTo>
                  <a:cubicBezTo>
                    <a:pt x="579" y="386"/>
                    <a:pt x="604" y="404"/>
                    <a:pt x="646" y="431"/>
                  </a:cubicBezTo>
                  <a:cubicBezTo>
                    <a:pt x="688" y="458"/>
                    <a:pt x="761" y="501"/>
                    <a:pt x="817" y="536"/>
                  </a:cubicBezTo>
                  <a:cubicBezTo>
                    <a:pt x="873" y="571"/>
                    <a:pt x="949" y="617"/>
                    <a:pt x="982" y="641"/>
                  </a:cubicBezTo>
                  <a:cubicBezTo>
                    <a:pt x="1015" y="665"/>
                    <a:pt x="995" y="664"/>
                    <a:pt x="1012" y="680"/>
                  </a:cubicBezTo>
                  <a:cubicBezTo>
                    <a:pt x="1029" y="696"/>
                    <a:pt x="1078" y="726"/>
                    <a:pt x="1084" y="740"/>
                  </a:cubicBezTo>
                  <a:cubicBezTo>
                    <a:pt x="1090" y="754"/>
                    <a:pt x="1078" y="767"/>
                    <a:pt x="1051" y="764"/>
                  </a:cubicBezTo>
                  <a:cubicBezTo>
                    <a:pt x="1024" y="761"/>
                    <a:pt x="950" y="724"/>
                    <a:pt x="922" y="722"/>
                  </a:cubicBezTo>
                  <a:cubicBezTo>
                    <a:pt x="894" y="720"/>
                    <a:pt x="896" y="746"/>
                    <a:pt x="880" y="749"/>
                  </a:cubicBezTo>
                  <a:cubicBezTo>
                    <a:pt x="864" y="752"/>
                    <a:pt x="858" y="758"/>
                    <a:pt x="826" y="740"/>
                  </a:cubicBezTo>
                  <a:cubicBezTo>
                    <a:pt x="794" y="722"/>
                    <a:pt x="725" y="673"/>
                    <a:pt x="688" y="641"/>
                  </a:cubicBezTo>
                  <a:cubicBezTo>
                    <a:pt x="651" y="609"/>
                    <a:pt x="630" y="570"/>
                    <a:pt x="607" y="548"/>
                  </a:cubicBezTo>
                  <a:cubicBezTo>
                    <a:pt x="584" y="526"/>
                    <a:pt x="565" y="508"/>
                    <a:pt x="547" y="506"/>
                  </a:cubicBezTo>
                  <a:cubicBezTo>
                    <a:pt x="529" y="504"/>
                    <a:pt x="510" y="515"/>
                    <a:pt x="496" y="536"/>
                  </a:cubicBezTo>
                  <a:cubicBezTo>
                    <a:pt x="482" y="557"/>
                    <a:pt x="459" y="601"/>
                    <a:pt x="463" y="632"/>
                  </a:cubicBezTo>
                  <a:cubicBezTo>
                    <a:pt x="467" y="663"/>
                    <a:pt x="514" y="695"/>
                    <a:pt x="520" y="722"/>
                  </a:cubicBezTo>
                  <a:cubicBezTo>
                    <a:pt x="526" y="749"/>
                    <a:pt x="510" y="784"/>
                    <a:pt x="502" y="797"/>
                  </a:cubicBezTo>
                  <a:cubicBezTo>
                    <a:pt x="494" y="810"/>
                    <a:pt x="480" y="802"/>
                    <a:pt x="472" y="800"/>
                  </a:cubicBezTo>
                  <a:cubicBezTo>
                    <a:pt x="464" y="798"/>
                    <a:pt x="469" y="780"/>
                    <a:pt x="451" y="785"/>
                  </a:cubicBezTo>
                  <a:cubicBezTo>
                    <a:pt x="433" y="790"/>
                    <a:pt x="393" y="814"/>
                    <a:pt x="364" y="833"/>
                  </a:cubicBezTo>
                  <a:cubicBezTo>
                    <a:pt x="335" y="852"/>
                    <a:pt x="303" y="881"/>
                    <a:pt x="277" y="899"/>
                  </a:cubicBezTo>
                  <a:cubicBezTo>
                    <a:pt x="251" y="917"/>
                    <a:pt x="222" y="944"/>
                    <a:pt x="205" y="944"/>
                  </a:cubicBezTo>
                  <a:cubicBezTo>
                    <a:pt x="188" y="944"/>
                    <a:pt x="183" y="906"/>
                    <a:pt x="172" y="899"/>
                  </a:cubicBezTo>
                  <a:cubicBezTo>
                    <a:pt x="161" y="892"/>
                    <a:pt x="150" y="901"/>
                    <a:pt x="139" y="899"/>
                  </a:cubicBezTo>
                  <a:cubicBezTo>
                    <a:pt x="128" y="897"/>
                    <a:pt x="102" y="897"/>
                    <a:pt x="103" y="884"/>
                  </a:cubicBezTo>
                  <a:cubicBezTo>
                    <a:pt x="104" y="871"/>
                    <a:pt x="133" y="839"/>
                    <a:pt x="148" y="818"/>
                  </a:cubicBezTo>
                  <a:cubicBezTo>
                    <a:pt x="163" y="797"/>
                    <a:pt x="203" y="760"/>
                    <a:pt x="196" y="755"/>
                  </a:cubicBezTo>
                  <a:cubicBezTo>
                    <a:pt x="189" y="750"/>
                    <a:pt x="133" y="768"/>
                    <a:pt x="103" y="785"/>
                  </a:cubicBezTo>
                  <a:cubicBezTo>
                    <a:pt x="73" y="802"/>
                    <a:pt x="26" y="852"/>
                    <a:pt x="13" y="857"/>
                  </a:cubicBezTo>
                  <a:cubicBezTo>
                    <a:pt x="0" y="862"/>
                    <a:pt x="5" y="836"/>
                    <a:pt x="25" y="815"/>
                  </a:cubicBezTo>
                  <a:cubicBezTo>
                    <a:pt x="45" y="794"/>
                    <a:pt x="97" y="756"/>
                    <a:pt x="130" y="728"/>
                  </a:cubicBezTo>
                  <a:cubicBezTo>
                    <a:pt x="163" y="700"/>
                    <a:pt x="199" y="671"/>
                    <a:pt x="220" y="647"/>
                  </a:cubicBezTo>
                  <a:cubicBezTo>
                    <a:pt x="241" y="623"/>
                    <a:pt x="245" y="602"/>
                    <a:pt x="259" y="584"/>
                  </a:cubicBezTo>
                  <a:cubicBezTo>
                    <a:pt x="273" y="566"/>
                    <a:pt x="301" y="556"/>
                    <a:pt x="307" y="542"/>
                  </a:cubicBezTo>
                  <a:cubicBezTo>
                    <a:pt x="313" y="528"/>
                    <a:pt x="310" y="511"/>
                    <a:pt x="298" y="500"/>
                  </a:cubicBezTo>
                  <a:cubicBezTo>
                    <a:pt x="286" y="489"/>
                    <a:pt x="240" y="485"/>
                    <a:pt x="235" y="473"/>
                  </a:cubicBezTo>
                  <a:cubicBezTo>
                    <a:pt x="230" y="461"/>
                    <a:pt x="272" y="436"/>
                    <a:pt x="268" y="425"/>
                  </a:cubicBezTo>
                  <a:cubicBezTo>
                    <a:pt x="264" y="414"/>
                    <a:pt x="218" y="414"/>
                    <a:pt x="211" y="404"/>
                  </a:cubicBezTo>
                  <a:cubicBezTo>
                    <a:pt x="204" y="394"/>
                    <a:pt x="229" y="376"/>
                    <a:pt x="226" y="365"/>
                  </a:cubicBezTo>
                  <a:cubicBezTo>
                    <a:pt x="223" y="354"/>
                    <a:pt x="196" y="343"/>
                    <a:pt x="190" y="335"/>
                  </a:cubicBezTo>
                  <a:cubicBezTo>
                    <a:pt x="184" y="327"/>
                    <a:pt x="192" y="320"/>
                    <a:pt x="187" y="314"/>
                  </a:cubicBezTo>
                  <a:cubicBezTo>
                    <a:pt x="182" y="308"/>
                    <a:pt x="167" y="304"/>
                    <a:pt x="157" y="296"/>
                  </a:cubicBezTo>
                  <a:cubicBezTo>
                    <a:pt x="147" y="288"/>
                    <a:pt x="129" y="276"/>
                    <a:pt x="127" y="266"/>
                  </a:cubicBezTo>
                  <a:cubicBezTo>
                    <a:pt x="125" y="256"/>
                    <a:pt x="144" y="246"/>
                    <a:pt x="148" y="236"/>
                  </a:cubicBezTo>
                  <a:cubicBezTo>
                    <a:pt x="152" y="226"/>
                    <a:pt x="155" y="218"/>
                    <a:pt x="151" y="206"/>
                  </a:cubicBezTo>
                  <a:cubicBezTo>
                    <a:pt x="147" y="194"/>
                    <a:pt x="134" y="178"/>
                    <a:pt x="121" y="164"/>
                  </a:cubicBezTo>
                  <a:cubicBezTo>
                    <a:pt x="108" y="150"/>
                    <a:pt x="78" y="141"/>
                    <a:pt x="73" y="125"/>
                  </a:cubicBezTo>
                  <a:cubicBezTo>
                    <a:pt x="68" y="109"/>
                    <a:pt x="78" y="68"/>
                    <a:pt x="88" y="68"/>
                  </a:cubicBezTo>
                  <a:cubicBezTo>
                    <a:pt x="98" y="68"/>
                    <a:pt x="130" y="125"/>
                    <a:pt x="136" y="128"/>
                  </a:cubicBezTo>
                  <a:cubicBezTo>
                    <a:pt x="142" y="131"/>
                    <a:pt x="132" y="100"/>
                    <a:pt x="127" y="89"/>
                  </a:cubicBezTo>
                  <a:cubicBezTo>
                    <a:pt x="122" y="78"/>
                    <a:pt x="101" y="67"/>
                    <a:pt x="103" y="62"/>
                  </a:cubicBezTo>
                  <a:cubicBezTo>
                    <a:pt x="105" y="57"/>
                    <a:pt x="135" y="61"/>
                    <a:pt x="139" y="56"/>
                  </a:cubicBezTo>
                  <a:cubicBezTo>
                    <a:pt x="143" y="51"/>
                    <a:pt x="126" y="37"/>
                    <a:pt x="127" y="32"/>
                  </a:cubicBezTo>
                  <a:cubicBezTo>
                    <a:pt x="128" y="27"/>
                    <a:pt x="142" y="20"/>
                    <a:pt x="148" y="23"/>
                  </a:cubicBezTo>
                  <a:cubicBezTo>
                    <a:pt x="154" y="26"/>
                    <a:pt x="157" y="45"/>
                    <a:pt x="163" y="50"/>
                  </a:cubicBezTo>
                  <a:cubicBezTo>
                    <a:pt x="169" y="55"/>
                    <a:pt x="186" y="42"/>
                    <a:pt x="187" y="53"/>
                  </a:cubicBezTo>
                  <a:cubicBezTo>
                    <a:pt x="188" y="64"/>
                    <a:pt x="171" y="110"/>
                    <a:pt x="172" y="119"/>
                  </a:cubicBezTo>
                  <a:cubicBezTo>
                    <a:pt x="173" y="128"/>
                    <a:pt x="190" y="112"/>
                    <a:pt x="196" y="107"/>
                  </a:cubicBezTo>
                  <a:cubicBezTo>
                    <a:pt x="202" y="102"/>
                    <a:pt x="203" y="86"/>
                    <a:pt x="211" y="89"/>
                  </a:cubicBezTo>
                  <a:cubicBezTo>
                    <a:pt x="219" y="92"/>
                    <a:pt x="237" y="112"/>
                    <a:pt x="244" y="122"/>
                  </a:cubicBezTo>
                  <a:cubicBezTo>
                    <a:pt x="251" y="132"/>
                    <a:pt x="244" y="144"/>
                    <a:pt x="256" y="149"/>
                  </a:cubicBezTo>
                  <a:cubicBezTo>
                    <a:pt x="268" y="154"/>
                    <a:pt x="307" y="148"/>
                    <a:pt x="319" y="155"/>
                  </a:cubicBezTo>
                  <a:cubicBezTo>
                    <a:pt x="331" y="162"/>
                    <a:pt x="318" y="192"/>
                    <a:pt x="325" y="191"/>
                  </a:cubicBezTo>
                  <a:cubicBezTo>
                    <a:pt x="332" y="190"/>
                    <a:pt x="362" y="160"/>
                    <a:pt x="361" y="152"/>
                  </a:cubicBezTo>
                  <a:cubicBezTo>
                    <a:pt x="360" y="144"/>
                    <a:pt x="336" y="153"/>
                    <a:pt x="319" y="143"/>
                  </a:cubicBezTo>
                  <a:cubicBezTo>
                    <a:pt x="302" y="133"/>
                    <a:pt x="262" y="105"/>
                    <a:pt x="259" y="92"/>
                  </a:cubicBezTo>
                  <a:cubicBezTo>
                    <a:pt x="256" y="79"/>
                    <a:pt x="304" y="69"/>
                    <a:pt x="298" y="62"/>
                  </a:cubicBezTo>
                  <a:cubicBezTo>
                    <a:pt x="292" y="55"/>
                    <a:pt x="226" y="49"/>
                    <a:pt x="22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e9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4221000"/>
              <a:ext cx="9144000" cy="2243160"/>
            </a:xfrm>
            <a:custGeom>
              <a:avLst/>
              <a:gdLst/>
              <a:ahLst/>
              <a:rect l="l" t="t" r="r" b="b"/>
              <a:pathLst>
                <a:path w="5760" h="1224">
                  <a:moveTo>
                    <a:pt x="0" y="230"/>
                  </a:moveTo>
                  <a:lnTo>
                    <a:pt x="702" y="104"/>
                  </a:lnTo>
                  <a:lnTo>
                    <a:pt x="1144" y="0"/>
                  </a:lnTo>
                  <a:lnTo>
                    <a:pt x="1461" y="50"/>
                  </a:lnTo>
                  <a:lnTo>
                    <a:pt x="1720" y="75"/>
                  </a:lnTo>
                  <a:lnTo>
                    <a:pt x="2054" y="17"/>
                  </a:lnTo>
                  <a:cubicBezTo>
                    <a:pt x="2054" y="17"/>
                    <a:pt x="2068" y="67"/>
                    <a:pt x="2296" y="84"/>
                  </a:cubicBezTo>
                  <a:cubicBezTo>
                    <a:pt x="2579" y="384"/>
                    <a:pt x="3089" y="242"/>
                    <a:pt x="3423" y="117"/>
                  </a:cubicBezTo>
                  <a:cubicBezTo>
                    <a:pt x="3556" y="59"/>
                    <a:pt x="3656" y="33"/>
                    <a:pt x="3823" y="25"/>
                  </a:cubicBezTo>
                  <a:cubicBezTo>
                    <a:pt x="3917" y="13"/>
                    <a:pt x="3832" y="57"/>
                    <a:pt x="3982" y="75"/>
                  </a:cubicBezTo>
                  <a:cubicBezTo>
                    <a:pt x="4025" y="90"/>
                    <a:pt x="3958" y="107"/>
                    <a:pt x="4082" y="117"/>
                  </a:cubicBezTo>
                  <a:cubicBezTo>
                    <a:pt x="4206" y="127"/>
                    <a:pt x="4577" y="136"/>
                    <a:pt x="4726" y="135"/>
                  </a:cubicBezTo>
                  <a:lnTo>
                    <a:pt x="4979" y="112"/>
                  </a:lnTo>
                  <a:lnTo>
                    <a:pt x="5397" y="222"/>
                  </a:lnTo>
                  <a:lnTo>
                    <a:pt x="5760" y="206"/>
                  </a:lnTo>
                  <a:lnTo>
                    <a:pt x="5760" y="1224"/>
                  </a:lnTo>
                  <a:lnTo>
                    <a:pt x="0" y="1224"/>
                  </a:lnTo>
                  <a:lnTo>
                    <a:pt x="0" y="230"/>
                  </a:ln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4981680"/>
              <a:ext cx="9144000" cy="1882800"/>
            </a:xfrm>
            <a:custGeom>
              <a:avLst/>
              <a:gdLst/>
              <a:ahLst/>
              <a:rect l="l" t="t" r="r" b="b"/>
              <a:pathLst>
                <a:path w="5760" h="1027">
                  <a:moveTo>
                    <a:pt x="0" y="1027"/>
                  </a:moveTo>
                  <a:lnTo>
                    <a:pt x="5760" y="1027"/>
                  </a:lnTo>
                  <a:lnTo>
                    <a:pt x="5760" y="409"/>
                  </a:lnTo>
                  <a:cubicBezTo>
                    <a:pt x="5576" y="305"/>
                    <a:pt x="4960" y="418"/>
                    <a:pt x="4658" y="401"/>
                  </a:cubicBezTo>
                  <a:cubicBezTo>
                    <a:pt x="4356" y="384"/>
                    <a:pt x="4240" y="317"/>
                    <a:pt x="3948" y="309"/>
                  </a:cubicBezTo>
                  <a:cubicBezTo>
                    <a:pt x="3656" y="301"/>
                    <a:pt x="3326" y="373"/>
                    <a:pt x="2905" y="351"/>
                  </a:cubicBezTo>
                  <a:cubicBezTo>
                    <a:pt x="2404" y="342"/>
                    <a:pt x="1978" y="192"/>
                    <a:pt x="1419" y="175"/>
                  </a:cubicBezTo>
                  <a:cubicBezTo>
                    <a:pt x="1045" y="130"/>
                    <a:pt x="918" y="167"/>
                    <a:pt x="659" y="84"/>
                  </a:cubicBezTo>
                  <a:cubicBezTo>
                    <a:pt x="342" y="75"/>
                    <a:pt x="150" y="17"/>
                    <a:pt x="0" y="0"/>
                  </a:cubicBezTo>
                  <a:cubicBezTo>
                    <a:pt x="0" y="513"/>
                    <a:pt x="0" y="1027"/>
                    <a:pt x="0" y="1027"/>
                  </a:cubicBezTo>
                  <a:close/>
                </a:path>
              </a:pathLst>
            </a:custGeom>
            <a:gradFill rotWithShape="0">
              <a:gsLst>
                <a:gs pos="0">
                  <a:srgbClr val="859596"/>
                </a:gs>
                <a:gs pos="100000">
                  <a:srgbClr val="c0d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e2e48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3200" y="12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51a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2e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90F-F6E4-43A6-B11D-590A8EF17729}" type="slidenum">
              <a:rPr b="0" lang="en-US" sz="1400" spc="-1" strike="noStrike">
                <a:solidFill>
                  <a:srgbClr val="2e2e4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4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e2e4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4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1451aa"/>
              </a:buClr>
              <a:buSzPct val="4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4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e2e4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1451aa"/>
              </a:buClr>
              <a:buSzPct val="5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e2e4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e2e4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e2e4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e2e48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e2e4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451aa"/>
                </a:solidFill>
                <a:latin typeface="ＭＳ Ｐゴシック"/>
              </a:rPr>
              <a:t>I Love</a:t>
            </a:r>
            <a:endParaRPr b="0" lang="en-US" sz="48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1280" y="914400"/>
            <a:ext cx="32004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寿司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81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2e48"/>
                </a:solidFill>
                <a:latin typeface="Times New Roman"/>
              </a:rPr>
              <a:t>情報の科学高等学校 </a:t>
            </a:r>
            <a:r>
              <a:rPr b="0" lang="en-US" sz="4000" spc="-1" strike="noStrike">
                <a:solidFill>
                  <a:srgbClr val="2e2e48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2e2e48"/>
                </a:solidFill>
                <a:latin typeface="Times New Roman"/>
              </a:rPr>
              <a:t>年生</a:t>
            </a:r>
            <a:endParaRPr b="0" lang="en-US" sz="4000" spc="-1" strike="noStrike">
              <a:solidFill>
                <a:srgbClr val="2e2e4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419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2e48"/>
                </a:solidFill>
                <a:latin typeface="Times New Roman"/>
              </a:rPr>
              <a:t>山田　情報太郎</a:t>
            </a:r>
            <a:endParaRPr b="0" lang="en-US" sz="4000" spc="-1" strike="noStrike">
              <a:solidFill>
                <a:srgbClr val="2e2e4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715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授業用素材</a:t>
            </a:r>
            <a:r>
              <a:rPr b="1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スライドを改良していきます。</a:t>
            </a:r>
            <a:endParaRPr b="0" lang="en-US" sz="2400" spc="-1" strike="noStrike">
              <a:solidFill>
                <a:srgbClr val="2e2e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10000">
                <a:solidFill>
                  <a:srgbClr val="1451aa"/>
                </a:solidFill>
                <a:latin typeface="Times New Roman"/>
              </a:rPr>
              <a:t>寿司の歴史</a:t>
            </a:r>
            <a:endParaRPr b="0" lang="en-US" sz="48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2e48"/>
                </a:solidFill>
                <a:latin typeface="Times New Roman"/>
              </a:rPr>
              <a:t>東南アジアの山地民の魚肉保存食を寿司の起源と挙げ、高地ゆえ頻繁に入手が困難な魚を、長期保存する手段として発達したものとしている。日本では奈良時代に存在が知られるが。魚（または肉）を塩と飯で漬け込み熟成させる「なれずし」であると考えられている。江戸時代には江戸前（江戸の前＝のちの東京湾）の魚介類と海苔を使用する江戸前寿司は、江戸中の屋台で売られるようになった。</a:t>
            </a:r>
            <a:endParaRPr b="0" lang="en-US" sz="1800" spc="-1" strike="noStrike">
              <a:solidFill>
                <a:srgbClr val="2e2e48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429000" cy="2697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67080" y="3809880"/>
            <a:ext cx="533520" cy="762120"/>
          </a:xfrm>
          <a:prstGeom prst="rightArrow">
            <a:avLst>
              <a:gd name="adj1" fmla="val 50000"/>
              <a:gd name="adj2" fmla="val 3958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2e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9"/>
                                      </p:to>
                                    </p:animClr>
                                    <p:animClr clrSpc="rgb">
                                      <p:cBhvr>
                                        <p:cTn id="37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9"/>
                                      </p:to>
                                    </p:animClr>
                                    <p:set>
                                      <p:cBhvr>
                                        <p:cTn id="38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2057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握りずし</a:t>
            </a:r>
            <a:endParaRPr b="0" lang="en-US" sz="4000" spc="-1" strike="noStrike">
              <a:solidFill>
                <a:srgbClr val="1451a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6000">
                <a:solidFill>
                  <a:srgbClr val="ff0066"/>
                </a:solidFill>
                <a:latin typeface="Times New Roman"/>
              </a:rPr>
              <a:t>握り鮨は小さな寿司飯の塊に具を載せてにぎったものである。飯と具の間にわさびをいれる。てづかみ、あるいは箸を用いて、必要が有ればしょうゆを付けて食べる。寿司としての歴史は浅く、江戸時代に江戸で考案された。</a:t>
            </a:r>
            <a:endParaRPr b="0" lang="en-US" sz="4800" spc="-1" strike="noStrike">
              <a:solidFill>
                <a:srgbClr val="2e2e48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4952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162920" y="35053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886200"/>
            <a:ext cx="1905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8555E-006 C -0.14966 -0.13919 -0.2125 -0.37388 -0.17223 -0.5933 C 0.01441 -0.58867 0.17605 -0.44532 0.24653 -0.24139 C 0.09254 -0.1052 -0.10625 -0.10359 -0.25955 -0.21711 C -0.19844 -0.44 -0.03803 -0.58682 0.14011 -0.60833 C 0.19393 -0.38336 0.13403 -0.14775 5E-006 2.48555E-006 Z">
                                      <p:cBhvr>
                                        <p:cTn id="53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巻き寿司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2e48"/>
                </a:solidFill>
                <a:latin typeface="Times New Roman"/>
              </a:rPr>
              <a:t>巻き寿司は、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具と酢飯を海苔で細長く巻いた寿司。</a:t>
            </a:r>
            <a:r>
              <a:rPr b="0" lang="zh-CN" sz="2800" spc="-1" strike="noStrike">
                <a:solidFill>
                  <a:srgbClr val="2e2e48"/>
                </a:solidFill>
                <a:latin typeface="Times New Roman"/>
              </a:rPr>
              <a:t>巻き簾の上に海苔を広げ、酢飯と具を載せて巻いたものである。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ちらし寿司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生魚や玉子焼き（刺身や握り寿司の種）などを、酢飯の上にちらして飾り載せしたもの。</a:t>
            </a:r>
            <a:r>
              <a:rPr b="0" lang="zh-CN" sz="2800" spc="-1" strike="noStrike">
                <a:solidFill>
                  <a:srgbClr val="2e2e48"/>
                </a:solidFill>
                <a:latin typeface="Times New Roman"/>
              </a:rPr>
              <a:t>具を散らして作ることから「ちらし」と呼ばれる。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五目寿司・ばら寿司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51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細かく切った魚介類、野菜などの具を酢飯に混ぜ混み、彩りにしょうが、錦糸玉子を飾る</a:t>
            </a:r>
            <a:r>
              <a:rPr b="0" lang="en-US" sz="2800" spc="-1" strike="noStrike">
                <a:solidFill>
                  <a:srgbClr val="2e2e48"/>
                </a:solidFill>
                <a:latin typeface="Times New Roman"/>
              </a:rPr>
              <a:t>[3]</a:t>
            </a:r>
            <a:r>
              <a:rPr b="0" lang="zh-CN" sz="2800" spc="-1" strike="noStrike">
                <a:solidFill>
                  <a:srgbClr val="2e2e48"/>
                </a:solidFill>
                <a:latin typeface="Times New Roman"/>
              </a:rPr>
              <a:t>。具にはさらに干椎茸の煮つけ・かんぴょう・酢蓮根・海老・焼穴子等がよく用いられる。</a:t>
            </a:r>
            <a:endParaRPr b="0" lang="en-US" sz="2800" spc="-1" strike="noStrike">
              <a:solidFill>
                <a:srgbClr val="2e2e48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48769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" y="48769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896160" y="487692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e2e48"/>
                </a:solidFill>
                <a:latin typeface="Times New Roman"/>
              </a:rPr>
              <a:t>お寿司は海外でも大人気です。</a:t>
            </a:r>
            <a:endParaRPr b="0" lang="en-US" sz="4800" spc="-1" strike="noStrike">
              <a:solidFill>
                <a:srgbClr val="2e2e48"/>
              </a:solidFill>
              <a:latin typeface="Times New Roman"/>
            </a:endParaRPr>
          </a:p>
        </p:txBody>
      </p:sp>
      <p:pic>
        <p:nvPicPr>
          <p:cNvPr id="122" name="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304920" y="685800"/>
            <a:ext cx="5333760" cy="399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クリックすると新しいウィンドウで開きます"/>
          <p:cNvPicPr/>
          <p:nvPr/>
        </p:nvPicPr>
        <p:blipFill>
          <a:blip r:embed="rId2"/>
          <a:stretch/>
        </p:blipFill>
        <p:spPr>
          <a:xfrm>
            <a:off x="5715000" y="1447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remove" presetClass="emph" presetID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ＭＳ ゴシック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 rot="583200">
            <a:off x="380880" y="228600"/>
            <a:ext cx="4496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ＭＳ Ｐゴシック"/>
              </a:rPr>
              <a:t>寿司が好きな理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ＭＳ Ｐゴシック"/>
              <a:ea typeface="ＭＳ Ｐゴシック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7280" y="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僕が好きな食べ物は寿司です。それは、いろいろなものが食べられるからです。</a:t>
            </a:r>
            <a:endParaRPr b="0" lang="en-US" sz="3200" spc="-1" strike="noStrike">
              <a:solidFill>
                <a:srgbClr val="2e2e4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特に回転寿司は自分で好きなものが選べるので良いです。友達と回転寿司にいくのが楽しみです。</a:t>
            </a:r>
            <a:endParaRPr b="0" lang="en-US" sz="3200" spc="-1" strike="noStrike">
              <a:solidFill>
                <a:srgbClr val="2e2e4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皆さんは、どんな寿司が好きですか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2e2e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057400" y="1905120"/>
            <a:ext cx="5410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プレゼン聞いてくれて、ありがとうござました。</a:t>
            </a:r>
            <a:endParaRPr b="0" lang="en-US" sz="5400" spc="-1" strike="noStrike">
              <a:solidFill>
                <a:srgbClr val="2e2e4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1:25:08Z</dcterms:created>
  <dc:creator>Owner</dc:creator>
  <dc:description/>
  <dc:language>en-US</dc:language>
  <cp:lastModifiedBy>Owner</cp:lastModifiedBy>
  <dcterms:modified xsi:type="dcterms:W3CDTF">2014-11-20T23:30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