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20931188" cy="29818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8F0-F8A3-487A-A189-AD027787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C5C-C635-4244-B72A-D4B12995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789-707A-43E1-90B3-08FFB624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19F-237F-4563-9DF8-1EC8F432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283-A3EF-4DC3-82A0-7FB33EEE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16C-E8D5-40C2-A379-AA7C08E1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2D0-9A6F-4ADB-AFE1-C3D9C297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F4B-4694-4007-84C7-EC08FDF9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933-13D0-4D6B-9E3B-3D29E224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76E-43D7-4BC3-8FEC-75255A84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6B1-489D-498E-A24F-D956C2A3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62A-2836-4969-9B71-C91E821D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F2E9-819A-4C04-871D-9CE8D5881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jpeg"/><Relationship Id="rId29" Type="http://schemas.openxmlformats.org/officeDocument/2006/relationships/image" Target="../media/image29.jpeg"/><Relationship Id="rId30" Type="http://schemas.openxmlformats.org/officeDocument/2006/relationships/image" Target="../media/image30.jpeg"/><Relationship Id="rId31" Type="http://schemas.openxmlformats.org/officeDocument/2006/relationships/image" Target="../media/image31.jpeg"/><Relationship Id="rId32" Type="http://schemas.openxmlformats.org/officeDocument/2006/relationships/image" Target="../media/image32.jpeg"/><Relationship Id="rId33" Type="http://schemas.openxmlformats.org/officeDocument/2006/relationships/image" Target="../media/image33.jpeg"/><Relationship Id="rId34" Type="http://schemas.openxmlformats.org/officeDocument/2006/relationships/image" Target="../media/image34.jpeg"/><Relationship Id="rId35" Type="http://schemas.openxmlformats.org/officeDocument/2006/relationships/image" Target="../media/image35.jpeg"/><Relationship Id="rId36" Type="http://schemas.openxmlformats.org/officeDocument/2006/relationships/image" Target="../media/image36.jpeg"/><Relationship Id="rId37" Type="http://schemas.openxmlformats.org/officeDocument/2006/relationships/image" Target="../media/image37.jpeg"/><Relationship Id="rId38" Type="http://schemas.openxmlformats.org/officeDocument/2006/relationships/image" Target="../media/image38.jpeg"/><Relationship Id="rId39" Type="http://schemas.openxmlformats.org/officeDocument/2006/relationships/image" Target="../media/image39.jpeg"/><Relationship Id="rId40" Type="http://schemas.openxmlformats.org/officeDocument/2006/relationships/image" Target="../media/image40.jpeg"/><Relationship Id="rId41" Type="http://schemas.openxmlformats.org/officeDocument/2006/relationships/image" Target="../media/image41.jpeg"/><Relationship Id="rId42" Type="http://schemas.openxmlformats.org/officeDocument/2006/relationships/image" Target="../media/image42.jpeg"/><Relationship Id="rId43" Type="http://schemas.openxmlformats.org/officeDocument/2006/relationships/image" Target="../media/image43.jpe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jpeg"/><Relationship Id="rId47" Type="http://schemas.openxmlformats.org/officeDocument/2006/relationships/image" Target="../media/image47.jpeg"/><Relationship Id="rId4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99320" y="351000"/>
            <a:ext cx="1370160" cy="63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HGP平成角ｺﾞｼｯｸ体W9"/>
              </a:rPr>
              <a:t>ユビキタスの時代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40400" y="351000"/>
            <a:ext cx="2158920" cy="63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HGP平成角ｺﾞｼｯｸ体W9"/>
              </a:rPr>
              <a:t>インターネットの時代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93920" y="351000"/>
            <a:ext cx="2346480" cy="63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HGP平成角ｺﾞｼｯｸ体W9"/>
              </a:rPr>
              <a:t>パソコンの時代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57480" y="351000"/>
            <a:ext cx="1036440" cy="63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HGP平成角ｺﾞｼｯｸ体W9"/>
              </a:rPr>
              <a:t>マイコンの時代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0280" y="351000"/>
            <a:ext cx="1357200" cy="63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HGP平成角ｺﾞｼｯｸ体W9"/>
              </a:rPr>
              <a:t>コンピュータの時代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351000"/>
            <a:ext cx="729000" cy="63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HGP平成角ｺﾞｼｯｸ体W9"/>
              </a:rPr>
              <a:t>前コンピュータ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351000"/>
            <a:ext cx="8998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6719760"/>
            <a:ext cx="8998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280" y="351000"/>
            <a:ext cx="0" cy="63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0280" y="351000"/>
            <a:ext cx="0" cy="636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7480" y="351000"/>
            <a:ext cx="0" cy="636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93920" y="351000"/>
            <a:ext cx="0" cy="636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40400" y="351000"/>
            <a:ext cx="0" cy="636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9320" y="351000"/>
            <a:ext cx="0" cy="636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69480" y="351000"/>
            <a:ext cx="0" cy="63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" y="47520"/>
            <a:ext cx="555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インフォグラフ</a:t>
            </a:r>
            <a:r>
              <a:rPr b="0" lang="en-US" sz="12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一目で見る</a:t>
            </a:r>
            <a:r>
              <a:rPr b="0" lang="en-US" sz="12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ICT</a:t>
            </a:r>
            <a:r>
              <a:rPr b="0" lang="zh-CN" sz="12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の歴史　</a:t>
            </a:r>
            <a:r>
              <a:rPr b="0" lang="en-US" sz="10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10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歯車式計算機から最新スマホまで</a:t>
            </a:r>
            <a:r>
              <a:rPr b="0" lang="en-US" sz="10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9520" y="1009800"/>
            <a:ext cx="877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924200" y="637920"/>
            <a:ext cx="7067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828440" y="647640"/>
            <a:ext cx="8892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581120" y="1339560"/>
            <a:ext cx="741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88960" y="1012680"/>
            <a:ext cx="95400" cy="3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266920" y="3292200"/>
            <a:ext cx="67215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71880" y="1003320"/>
            <a:ext cx="824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9200" y="3879720"/>
            <a:ext cx="655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74920" y="3301920"/>
            <a:ext cx="2556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4880" y="2706840"/>
            <a:ext cx="619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705040" y="2711160"/>
            <a:ext cx="5724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959120" y="6279840"/>
            <a:ext cx="70135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62200" y="5724360"/>
            <a:ext cx="722304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332160" y="5722920"/>
            <a:ext cx="6048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96920" y="4547880"/>
            <a:ext cx="8794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52520" y="5130720"/>
            <a:ext cx="7629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70080" y="1028880"/>
            <a:ext cx="82440" cy="41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36800" y="2190600"/>
            <a:ext cx="704844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507996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5040" y="26542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7080" y="32320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35040" y="12906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0480" y="58572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3240" y="382284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30320" y="622296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98880" y="2193840"/>
            <a:ext cx="4104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86280" y="213372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30320" y="1346040"/>
            <a:ext cx="5076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17720" y="212076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89640" y="104760"/>
            <a:ext cx="264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2014.Jul  V1.01 Go Ota   http://www.beyondbb.jp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3640" y="1044720"/>
            <a:ext cx="5662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642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歯車式計算機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パスカル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674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機械式計算機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ライプニッツ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834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階差機関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バベジ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br>
              <a:rPr sz="400"/>
            </a:b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42 ABC 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２進逐次演算方式、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コンデンサ・ドラム・メモリ採用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]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アタナソフ、ベリー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43 COLOSSUS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暗号解読用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]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チューリング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9120" y="534960"/>
            <a:ext cx="7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46 ENIAC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コンピュータ。</a:t>
            </a:r>
            <a:br>
              <a:rPr sz="600"/>
            </a:b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弾道計算用。</a:t>
            </a:r>
            <a:br>
              <a:rPr sz="600"/>
            </a:b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真空管 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7,468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本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4480" y="95256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680" y="460044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837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電信機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モールス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)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876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電話の特許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ベル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)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20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商用ラジオ放送開始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米国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)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29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テレビ実験放送開始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(BB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137628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59 PDP-1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商用ミニコン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(DE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80960" y="733320"/>
            <a:ext cx="5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64 IBM-360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最初の汎用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コンピュータ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9000" y="1009800"/>
            <a:ext cx="6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50 UNIVAC-1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最初の商用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コンピュータ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(UNIVA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81360" y="633240"/>
            <a:ext cx="795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64 CDC 6600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スパコン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48000" y="638280"/>
            <a:ext cx="5619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5 Cray-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86000" y="633240"/>
            <a:ext cx="5619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2 Cray X-MP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628560"/>
            <a:ext cx="5619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9 SX-3(NE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95840" y="623880"/>
            <a:ext cx="738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7 ASCI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Red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Intel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2560" y="623880"/>
            <a:ext cx="7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2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地球シミュレータ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NE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24520" y="623880"/>
            <a:ext cx="7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4 Blue Gene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IB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623880"/>
            <a:ext cx="7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0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天河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A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号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中国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91360" y="623880"/>
            <a:ext cx="7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1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京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理化学研究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20120" y="62388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3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天河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号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中国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5840" y="857160"/>
            <a:ext cx="5619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0 IBM-37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3800" y="866880"/>
            <a:ext cx="56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1 IBM-3081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9640" y="876240"/>
            <a:ext cx="5619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0 IBM-39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9760" y="971640"/>
            <a:ext cx="60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64 OS/360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最初の汎用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OS]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71760" y="110952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64 PDP-8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ヒットしたミニコン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(DE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1109520"/>
            <a:ext cx="81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0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DP-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1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DE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81360" y="110484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8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VAX-11/780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DE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52880" y="1109520"/>
            <a:ext cx="81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2 Sun-1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Sun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43320" y="1123920"/>
            <a:ext cx="81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9 SPARCstation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(Sun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4520" y="2195640"/>
            <a:ext cx="733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67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UNIX for PDP-7</a:t>
            </a:r>
            <a:br>
              <a:rPr sz="600"/>
            </a:b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</a:t>
            </a: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UNIX]</a:t>
            </a:r>
            <a:br>
              <a:rPr sz="600"/>
            </a:b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ベル研</a:t>
            </a: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5320" y="973080"/>
            <a:ext cx="60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6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5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Multics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TSS]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87480" y="1733400"/>
            <a:ext cx="619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47800" y="1019160"/>
            <a:ext cx="11916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9720" y="16714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48000" y="110484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3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Alto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GUI-OS]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(Xerox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33440" y="1457280"/>
            <a:ext cx="6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4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SystemR/SEQUEL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RDBMS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の原型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(IB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0200" y="172404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9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Oracle RDBMS V2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商用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RDBMS]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3160" y="171936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Infomix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Infomix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14800" y="154296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3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DB2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IBM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47960" y="1719360"/>
            <a:ext cx="52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6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Sybase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Sybase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38640" y="1719360"/>
            <a:ext cx="52380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9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Postg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4400" y="154764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92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SAP R/3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SAP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6680" y="171936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93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SQL Server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Microsoft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62640" y="1724040"/>
            <a:ext cx="57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9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MySQ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29480" y="1724040"/>
            <a:ext cx="57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98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Oracle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81760" y="149076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IBM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が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Infromix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を買収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91640" y="1490760"/>
            <a:ext cx="67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SAP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が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Sybase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を買収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1714680"/>
            <a:ext cx="69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Oracle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が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Sun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を買収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71760" y="307188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1 i-4004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最初の 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4bit CPU]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インテル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76560" y="3024360"/>
            <a:ext cx="4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3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i-808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インテル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28920" y="302436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4 MC680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モトローラ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302436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Z8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ザイログ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828880"/>
            <a:ext cx="42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i-808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インテル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4560" y="283356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6 MC6800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モトローラ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3038400"/>
            <a:ext cx="42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3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i-8028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インテル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62280" y="2852640"/>
            <a:ext cx="42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6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R2000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(MIPS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72000" y="328140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6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ARM2 (A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81320" y="2857680"/>
            <a:ext cx="42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7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SPARC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Sun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33760" y="2857680"/>
            <a:ext cx="42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owerPC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33760" y="3043080"/>
            <a:ext cx="42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Am38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AMD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76760" y="3043080"/>
            <a:ext cx="42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3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entium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インテル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86360" y="328608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4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ARM7 (A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9880" y="30430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7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Core2Duo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インテル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9480" y="3043080"/>
            <a:ext cx="42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8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Core i7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インテル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9480" y="3262320"/>
            <a:ext cx="6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8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Atom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インテル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77160" y="30430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9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henom II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AMD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29440" y="3262320"/>
            <a:ext cx="6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Cortex-A9 (A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76560" y="248616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5 Altair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最初の商用パソコン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47800" y="2395440"/>
            <a:ext cx="4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Apple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95760" y="2519280"/>
            <a:ext cx="47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7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Apple II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38320" y="2690640"/>
            <a:ext cx="56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9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PC 8001 (NE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19400" y="2514600"/>
            <a:ext cx="56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1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IBM P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81400" y="2690640"/>
            <a:ext cx="56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2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C 9801 (NE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43400" y="2514600"/>
            <a:ext cx="56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4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IBM PC/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38360" y="2371680"/>
            <a:ext cx="5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4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マッキントッシュ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9480" y="2700360"/>
            <a:ext cx="65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8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ダイナブック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東芝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19280"/>
            <a:ext cx="65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90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DOS/V P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81360" y="2700360"/>
            <a:ext cx="65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2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コンパック日本参入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48200" y="2523960"/>
            <a:ext cx="65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8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iMa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81960" y="2695680"/>
            <a:ext cx="65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3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C9801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出荷終了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15160" y="2523960"/>
            <a:ext cx="65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4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レノボが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IBM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の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PC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事業を買収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4160" y="2529000"/>
            <a:ext cx="65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8 Eee PC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ASUSTek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15280" y="2529000"/>
            <a:ext cx="65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2 Surface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Microsof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2181240"/>
            <a:ext cx="41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0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CP/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19400" y="2181240"/>
            <a:ext cx="41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MS-DO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71960" y="1995480"/>
            <a:ext cx="41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Sun-O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3680" y="2181240"/>
            <a:ext cx="56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4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Mac O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33680" y="1995480"/>
            <a:ext cx="41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4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TRON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開始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3200" y="2181240"/>
            <a:ext cx="46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5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Windows 1.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57720" y="2181240"/>
            <a:ext cx="46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9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DOS/V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29000" y="2004840"/>
            <a:ext cx="41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91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BSD/38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29000" y="187632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91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Linux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開発開始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95760" y="218124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93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Windows 3.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05480" y="200484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93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Windows N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43360" y="188136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93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Debia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62400" y="187632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94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RedH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62640" y="218124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95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Windows 9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24560" y="200016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9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Windows NT4.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38960" y="2305080"/>
            <a:ext cx="53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9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Windows 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19600" y="2000160"/>
            <a:ext cx="46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7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ITRON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仕様公開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24520" y="188136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Kinoppi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34040" y="218124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Windows XP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1881360"/>
            <a:ext cx="3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3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CentO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15160" y="1881360"/>
            <a:ext cx="3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4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Ubuntu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72120" y="230508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Symbia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2185920"/>
            <a:ext cx="65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2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Windows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39200" y="2300400"/>
            <a:ext cx="65700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2007 iPhone O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230508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5 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Windows Mobile V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15200" y="218124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Mac OS 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24880" y="2362320"/>
            <a:ext cx="65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8 Android V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Goog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95560" y="3881520"/>
            <a:ext cx="771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2 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オデッセイ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家庭用ゲーム機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24120" y="3666960"/>
            <a:ext cx="4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7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Atari 2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57600" y="3524400"/>
            <a:ext cx="54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8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スペースインベーダー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14800" y="3662280"/>
            <a:ext cx="54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3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ファミコン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38440" y="3529080"/>
            <a:ext cx="652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5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スーパーマリオ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29160" y="3591000"/>
            <a:ext cx="6523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6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ドラクエ 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76720" y="386244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9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ゲームボーイ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53040" y="368136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スーパーファミコン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57960" y="368136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layStatio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86244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たまごっち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81720" y="354816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ポケモン赤・緑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19600" y="3486240"/>
            <a:ext cx="652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7 FF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9320" y="368136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Xbo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24520" y="386244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4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ニンテンドー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D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29560" y="3990960"/>
            <a:ext cx="6523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4 PSP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43760" y="368136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Xbox36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72360" y="368136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6 Wii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6 PS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0" y="3571920"/>
            <a:ext cx="52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4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モンハン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4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グリー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67680" y="3576600"/>
            <a:ext cx="52380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6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モバゲー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05760" y="386712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ニンテンドー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3D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29480" y="3500280"/>
            <a:ext cx="6145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3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パズドラ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3 FF XIV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3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妖怪ウォッチ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3 PS4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3 Xbox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38960" y="3576600"/>
            <a:ext cx="4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2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ドラクエ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38440" y="435276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68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ポケベル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90840" y="417204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9</a:t>
            </a:r>
            <a:br>
              <a:rPr sz="600"/>
            </a:b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　初の自動車電話</a:t>
            </a:r>
            <a:br>
              <a:rPr sz="600"/>
            </a:b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電電公社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0280" y="4300560"/>
            <a:ext cx="6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5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ショルダーフォン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NT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90880" y="4300560"/>
            <a:ext cx="6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7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TZ-802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国内初の携帯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NT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19320" y="44830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53040" y="4300560"/>
            <a:ext cx="6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9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マイクロタック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初の小型携帯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]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モトローラ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95840" y="454356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3 Newton Pad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Apple)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3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ザウルス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シャープ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430056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96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Nokia 9000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スマートフォン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(Nokia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0800" y="4524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al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38960" y="242892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alm O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76880" y="430056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99 i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モード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インターネット接続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 (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ドコモ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8400" y="452448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2001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iPo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4257720"/>
            <a:ext cx="652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2007</a:t>
            </a:r>
            <a:br>
              <a:rPr sz="600"/>
            </a:b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iPh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58280" y="448776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34480" y="42386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国内初の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Android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端末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0 Galaxy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サムスン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605800" y="434808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3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iPhone 5s/5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634240" y="452916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4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iPad Ai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57160" y="479124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56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Fortran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科学技術計算用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4080" y="5119560"/>
            <a:ext cx="6523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6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COBOL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事務計算用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]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6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LIST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人工知能用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]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81200" y="512460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64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BASIC</a:t>
            </a:r>
            <a:br>
              <a:rPr sz="400"/>
            </a:b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95560" y="511956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ascal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76640" y="5119560"/>
            <a:ext cx="3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2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C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言語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57360" y="511956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8080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用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BASIC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ビル・ゲイツ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33680" y="4871880"/>
            <a:ext cx="5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7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Visicalc</a:t>
            </a:r>
            <a:br>
              <a:rPr sz="400"/>
            </a:b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表計算</a:t>
            </a:r>
            <a:r>
              <a:rPr b="0" lang="ja-JP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09800" y="487188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8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WordSta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76640" y="4876920"/>
            <a:ext cx="5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2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MultiPlan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Microsof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48080" y="4876920"/>
            <a:ext cx="5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3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Lotus1-2-3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43400" y="5119560"/>
            <a:ext cx="3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3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C++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43440" y="511956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7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erl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81640" y="5114880"/>
            <a:ext cx="3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Visual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Basic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95840" y="4943520"/>
            <a:ext cx="6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3 MS-Office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3 Adobe Acrob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7320" y="494352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5 IBM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が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Lotus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を買収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72000" y="51246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95 Java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5 PHP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5 Rub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53160" y="512460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Flas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91360" y="4943520"/>
            <a:ext cx="53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Open Offi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24840" y="4886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Google Docs &amp; Spreadshee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6480" y="628164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3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HTML 1.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76960" y="51386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6 Google App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6 Amazon EC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72320" y="6267600"/>
            <a:ext cx="5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8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HTML 5.0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ドラフト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58160" y="51386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9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Open Cloud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Platform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(Sun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72040" y="51246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7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Visual Studio9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67360" y="5238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7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Eclipse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オープンソース化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634240" y="465768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4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Google Glas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62160" y="6110280"/>
            <a:ext cx="7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69 ARPANET 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インターネットの前身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]</a:t>
            </a:r>
            <a:br>
              <a:rPr sz="600"/>
            </a:b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米国防総省</a:t>
            </a:r>
            <a:r>
              <a:rPr b="0" lang="en-US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)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32120" y="566892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38200" y="56624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69</a:t>
            </a:r>
            <a:br>
              <a:rPr sz="600"/>
            </a:b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Compu Serve</a:t>
            </a:r>
            <a:br>
              <a:rPr sz="600"/>
            </a:b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[</a:t>
            </a: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</a:t>
            </a:r>
            <a:r>
              <a:rPr b="0" lang="ja-JP" sz="6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Consumer Generated Media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86080" y="5958000"/>
            <a:ext cx="6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2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SMTP (Simple Mail Transfer Protocol)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が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RFC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化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33600" y="54864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6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 TSS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上の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電子メール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57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1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CSNET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運用開始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0080" y="565632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6262560"/>
            <a:ext cx="5904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2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International Network Working Group (INWG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571500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7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Nifty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8040" y="5715000"/>
            <a:ext cx="4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ASCII-Net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90800" y="595296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3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DNS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の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誕生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76600" y="595800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77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RSA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暗号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952960"/>
            <a:ext cx="3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85</a:t>
            </a:r>
            <a:br>
              <a:rPr sz="400"/>
            </a:b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コンピュータウィルス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91000" y="546732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91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初の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Web</a:t>
            </a:r>
            <a:br>
              <a:rPr sz="400"/>
            </a:b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サイト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76760" y="5962680"/>
            <a:ext cx="6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3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Mosaic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ブラウザ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62640" y="6029280"/>
            <a:ext cx="6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IE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ブラウザ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53040" y="5967360"/>
            <a:ext cx="6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4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Netscape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ブラウザ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67320" y="5481720"/>
            <a:ext cx="4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Yahoo!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67320" y="626760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IPv6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仕様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05520" y="5481720"/>
            <a:ext cx="4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8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Googl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05520" y="626760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8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XM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5477040"/>
            <a:ext cx="4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9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Blogger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62560" y="571500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9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2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ちゃんねる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24560" y="547200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1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Wikiped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86720" y="5419800"/>
            <a:ext cx="495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3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Facebook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Secondlife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Skype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81760" y="5705640"/>
            <a:ext cx="4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4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Mixi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グリー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291440" y="57103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モバゲー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ニコニコ動画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81760" y="597204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4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FireFox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[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ブラウザ</a:t>
            </a: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]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5477040"/>
            <a:ext cx="44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5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Youtub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34280" y="547704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0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twit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34280" y="547704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Google+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53360" y="571032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LI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58040" y="6267600"/>
            <a:ext cx="6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2011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IPv4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の最後</a:t>
            </a:r>
            <a:br>
              <a:rPr sz="400"/>
            </a:b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の割り当て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67120" y="62866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4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JUNe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57560" y="5972040"/>
            <a:ext cx="6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73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TCP/IP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イーサネット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67240" y="628164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1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JNIC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設立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19520" y="64101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1992</a:t>
            </a:r>
            <a:br>
              <a:rPr sz="400"/>
            </a:b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日本発の</a:t>
            </a:r>
            <a:r>
              <a:rPr b="0" lang="en-US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ISP</a:t>
            </a:r>
            <a:r>
              <a:rPr b="0" lang="zh-CN" sz="400" spc="-1" strike="noStrike">
                <a:solidFill>
                  <a:srgbClr val="ff0000"/>
                </a:solidFill>
                <a:latin typeface="HGP平成角ｺﾞｼｯｸ体W9"/>
                <a:ea typeface="HGP平成角ｺﾞｼｯｸ体W9"/>
              </a:rPr>
              <a:t>サービス開始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86560" y="5481720"/>
            <a:ext cx="43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6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Hotmai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62640" y="5824440"/>
            <a:ext cx="50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9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Apache HTML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Serv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48520" y="4529160"/>
            <a:ext cx="52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2010</a:t>
            </a:r>
            <a:br>
              <a:rPr sz="400"/>
            </a:br>
            <a:r>
              <a:rPr b="0" lang="ja-JP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iP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90600" y="561960"/>
            <a:ext cx="377640" cy="37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862360" y="690480"/>
            <a:ext cx="285480" cy="289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1428840" y="18050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4809960" y="1041480"/>
            <a:ext cx="262080" cy="284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1452600" y="547560"/>
            <a:ext cx="377640" cy="2192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8196120" y="785880"/>
            <a:ext cx="381240" cy="201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2786040" y="1590840"/>
            <a:ext cx="380880" cy="68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4519440" y="1386000"/>
            <a:ext cx="381240" cy="1872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9"/>
          <a:stretch/>
        </p:blipFill>
        <p:spPr>
          <a:xfrm>
            <a:off x="4714920" y="23572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3819600" y="2367000"/>
            <a:ext cx="323640" cy="322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1"/>
          <a:stretch/>
        </p:blipFill>
        <p:spPr>
          <a:xfrm>
            <a:off x="2290680" y="2271600"/>
            <a:ext cx="385920" cy="2286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2"/>
          <a:stretch/>
        </p:blipFill>
        <p:spPr>
          <a:xfrm>
            <a:off x="8353440" y="2376360"/>
            <a:ext cx="566640" cy="1144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3"/>
          <a:stretch/>
        </p:blipFill>
        <p:spPr>
          <a:xfrm>
            <a:off x="6777000" y="2871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4"/>
          <a:stretch/>
        </p:blipFill>
        <p:spPr>
          <a:xfrm>
            <a:off x="1652760" y="2724120"/>
            <a:ext cx="380880" cy="34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5"/>
          <a:stretch/>
        </p:blipFill>
        <p:spPr>
          <a:xfrm>
            <a:off x="2424240" y="3429000"/>
            <a:ext cx="376200" cy="349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6"/>
          <a:stretch/>
        </p:blipFill>
        <p:spPr>
          <a:xfrm>
            <a:off x="2219400" y="4672080"/>
            <a:ext cx="380880" cy="393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7"/>
          <a:stretch/>
        </p:blipFill>
        <p:spPr>
          <a:xfrm>
            <a:off x="3228840" y="3362400"/>
            <a:ext cx="385920" cy="3268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8"/>
          <a:stretch/>
        </p:blipFill>
        <p:spPr>
          <a:xfrm>
            <a:off x="5048280" y="3481560"/>
            <a:ext cx="380880" cy="3427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9"/>
          <a:stretch/>
        </p:blipFill>
        <p:spPr>
          <a:xfrm>
            <a:off x="2809800" y="3990960"/>
            <a:ext cx="306360" cy="268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0"/>
          <a:stretch/>
        </p:blipFill>
        <p:spPr>
          <a:xfrm>
            <a:off x="7105680" y="1851120"/>
            <a:ext cx="347760" cy="2761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1"/>
          <a:stretch/>
        </p:blipFill>
        <p:spPr>
          <a:xfrm>
            <a:off x="5149800" y="2243160"/>
            <a:ext cx="355680" cy="3906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2"/>
          <a:stretch/>
        </p:blipFill>
        <p:spPr>
          <a:xfrm>
            <a:off x="8148600" y="1914480"/>
            <a:ext cx="363600" cy="2127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3"/>
          <a:stretch/>
        </p:blipFill>
        <p:spPr>
          <a:xfrm>
            <a:off x="6210360" y="1395360"/>
            <a:ext cx="380880" cy="182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4"/>
          <a:stretch/>
        </p:blipFill>
        <p:spPr>
          <a:xfrm>
            <a:off x="7724880" y="2776680"/>
            <a:ext cx="377640" cy="2826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114800" y="4876920"/>
            <a:ext cx="5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7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ハイパーカード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App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5"/>
          <a:stretch/>
        </p:blipFill>
        <p:spPr>
          <a:xfrm>
            <a:off x="5043600" y="29005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6"/>
          <a:stretch/>
        </p:blipFill>
        <p:spPr>
          <a:xfrm>
            <a:off x="8305920" y="592452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7"/>
          <a:stretch/>
        </p:blipFill>
        <p:spPr>
          <a:xfrm>
            <a:off x="7724880" y="3905280"/>
            <a:ext cx="237960" cy="40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8"/>
          <a:stretch/>
        </p:blipFill>
        <p:spPr>
          <a:xfrm>
            <a:off x="5853240" y="3957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9"/>
          <a:stretch/>
        </p:blipFill>
        <p:spPr>
          <a:xfrm>
            <a:off x="3824280" y="39290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0"/>
          <a:stretch/>
        </p:blipFill>
        <p:spPr>
          <a:xfrm>
            <a:off x="4624560" y="3940200"/>
            <a:ext cx="247320" cy="3556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1"/>
          <a:stretch/>
        </p:blipFill>
        <p:spPr>
          <a:xfrm>
            <a:off x="8267760" y="4046400"/>
            <a:ext cx="304920" cy="2844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2"/>
          <a:stretch/>
        </p:blipFill>
        <p:spPr>
          <a:xfrm>
            <a:off x="7172280" y="40528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3"/>
          <a:stretch/>
        </p:blipFill>
        <p:spPr>
          <a:xfrm>
            <a:off x="6796080" y="4600440"/>
            <a:ext cx="333360" cy="4003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4"/>
          <a:stretch/>
        </p:blipFill>
        <p:spPr>
          <a:xfrm>
            <a:off x="5572080" y="5400720"/>
            <a:ext cx="380880" cy="96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5"/>
          <a:stretch/>
        </p:blipFill>
        <p:spPr>
          <a:xfrm>
            <a:off x="6605640" y="5176800"/>
            <a:ext cx="280800" cy="2811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6"/>
          <a:stretch/>
        </p:blipFill>
        <p:spPr>
          <a:xfrm>
            <a:off x="7043760" y="5329080"/>
            <a:ext cx="324000" cy="1828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7"/>
          <a:stretch/>
        </p:blipFill>
        <p:spPr>
          <a:xfrm>
            <a:off x="7734240" y="5396040"/>
            <a:ext cx="236520" cy="2365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8"/>
          <a:stretch/>
        </p:blipFill>
        <p:spPr>
          <a:xfrm>
            <a:off x="8577360" y="4867200"/>
            <a:ext cx="38556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9"/>
          <a:stretch/>
        </p:blipFill>
        <p:spPr>
          <a:xfrm>
            <a:off x="8439120" y="5229360"/>
            <a:ext cx="270000" cy="2696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0"/>
          <a:stretch/>
        </p:blipFill>
        <p:spPr>
          <a:xfrm>
            <a:off x="8001000" y="63723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1"/>
          <a:stretch/>
        </p:blipFill>
        <p:spPr>
          <a:xfrm>
            <a:off x="6429240" y="5894280"/>
            <a:ext cx="154080" cy="339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クリックすると新しいウィンドウで開きます"/>
          <p:cNvPicPr/>
          <p:nvPr/>
        </p:nvPicPr>
        <p:blipFill>
          <a:blip r:embed="rId42"/>
          <a:stretch/>
        </p:blipFill>
        <p:spPr>
          <a:xfrm>
            <a:off x="3619440" y="4567320"/>
            <a:ext cx="354240" cy="353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3"/>
          <a:stretch/>
        </p:blipFill>
        <p:spPr>
          <a:xfrm>
            <a:off x="4362480" y="5781600"/>
            <a:ext cx="193680" cy="270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4"/>
          <a:stretch/>
        </p:blipFill>
        <p:spPr>
          <a:xfrm>
            <a:off x="4389480" y="6453360"/>
            <a:ext cx="277920" cy="1904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5"/>
          <a:stretch/>
        </p:blipFill>
        <p:spPr>
          <a:xfrm>
            <a:off x="5753160" y="6435720"/>
            <a:ext cx="241200" cy="2462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6"/>
          <a:stretch/>
        </p:blipFill>
        <p:spPr>
          <a:xfrm>
            <a:off x="5214960" y="575784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133800" y="4533840"/>
            <a:ext cx="6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0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ポケットコンピュータ</a:t>
            </a:r>
            <a:br>
              <a:rPr sz="400"/>
            </a:b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　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(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シャープ</a:t>
            </a: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67040" y="481968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</a:t>
            </a:r>
            <a:r>
              <a:rPr b="0" lang="zh-CN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一太郎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1985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HGP平成角ｺﾞｼｯｸ体W9"/>
                <a:ea typeface="HGP平成角ｺﾞｼｯｸ体W9"/>
              </a:rPr>
              <a:t> Excel for Ma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7"/>
          <a:stretch/>
        </p:blipFill>
        <p:spPr>
          <a:xfrm>
            <a:off x="5967360" y="3481560"/>
            <a:ext cx="347760" cy="3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3:08:44Z</dcterms:created>
  <dc:creator>Owner</dc:creator>
  <dc:description/>
  <dc:language>en-US</dc:language>
  <cp:lastModifiedBy>Owner</cp:lastModifiedBy>
  <dcterms:modified xsi:type="dcterms:W3CDTF">2014-07-31T11:33:24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