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697-5BA4-4189-94EE-61244E3E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6CF-06DA-4B00-819E-EAE2B499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987-7BE1-444E-BC52-10A60B01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EC4-5BE2-493D-8B94-42BDEF65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0D3-253C-4495-AE2A-C858F0FE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E04-0A07-46AB-B25A-6DD43A81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A4B-E24F-4596-BF29-F8145DD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F0E-A6EA-4156-842D-3F915D4E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CA7-6C32-4BFA-A9C3-ADC0369E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22-E396-4334-BB38-653D9C9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857-9AE0-4DC8-8794-B8F4CC9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A67-12DB-4B5A-B858-71FE680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7582-E553-4C13-B2C3-307D41102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挑戦者たち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のコンピュータの夜明け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6248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er 1.0 2014/06/30 © Go Ota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4562280" cy="37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200320" cy="4038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2880" y="1523880"/>
            <a:ext cx="2057400" cy="990720"/>
          </a:xfrm>
          <a:prstGeom prst="wedgeRectCallout">
            <a:avLst>
              <a:gd name="adj1" fmla="val -31634"/>
              <a:gd name="adj2" fmla="val 8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先生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日の授業はビデオ見るだけです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2362320"/>
            <a:ext cx="2133360" cy="1066680"/>
          </a:xfrm>
          <a:prstGeom prst="wedgeRectCallout">
            <a:avLst>
              <a:gd name="adj1" fmla="val -62500"/>
              <a:gd name="adj2" fmla="val -3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はい、そうです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ビデオ見て、感想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itter/LIN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に書くだけ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B53-0E00-4CA9-9D95-FE8862FEFB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3400" y="1676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本の鉄道網を支えるＪＲオンライン発券システム「みどりの窓口」、その開発と実用化に官民がともに挑ん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の苦闘を描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609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座席への苦闘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みどりの窓口・世界初 鉄道システ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741-CCCB-4920-AEED-871A5D1DB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43400" y="1676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巨象に蚊が挑む”無謀で破天荒で命がけの挑戦。日本コンピューター産業の父と言われる池田敏雄の壮絶なドラマを描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609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産コンピューター ゼロからの大逆転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本技術界 伝説のドラ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3717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70F-8230-4A16-A3E9-F59449DF3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37184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048040" cy="42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09680" y="1676520"/>
            <a:ext cx="2133720" cy="685800"/>
          </a:xfrm>
          <a:prstGeom prst="wedgeRectCallout">
            <a:avLst>
              <a:gd name="adj1" fmla="val -63615"/>
              <a:gd name="adj2" fmla="val 21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みなさん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技術者になりたいです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9E7-E7EC-4D07-A27B-92BF06931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Owner</cp:lastModifiedBy>
  <dcterms:modified xsi:type="dcterms:W3CDTF">2014-06-30T05:55:3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