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4.jpeg" ContentType="image/jpeg"/>
  <Override PartName="/ppt/media/image31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8.jpeg" ContentType="image/jpeg"/>
  <Override PartName="/ppt/media/image12.png" ContentType="image/png"/>
  <Override PartName="/ppt/media/image5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5FC-C229-47B6-A6DD-CFB21751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CC3-CE39-43AB-B34A-8B5A66C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EEE-73FE-49BD-A56A-B97DA1D6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E67-7E6A-49E4-83CE-0F2294C8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A19-5503-4F4A-9ADC-45D0274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931-1F18-4BC0-81C3-6F8FD597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CCA-712D-4311-9A74-EE46F20B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07F-045D-4D32-973B-DB0201DD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021-63EC-4258-9528-D9DAD53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CA8-DABB-4DCD-A3F3-1721E15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A58-122E-4FEB-AF78-4FF36AC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94F-8FB6-40E5-8CA2-ED27D3B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B40-E04F-4EB2-9FA2-76EA6BC4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79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つ命令で本格プログラミングを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で本物っぽいプログラミングに挑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248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er. 1.0 (2014/06/20)  © Go Ota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7000" y="1606680"/>
            <a:ext cx="2733840" cy="425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11960" y="3262320"/>
            <a:ext cx="3371760" cy="2828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1560" y="2133720"/>
            <a:ext cx="1914480" cy="987480"/>
          </a:xfrm>
          <a:prstGeom prst="wedgeRectCallout">
            <a:avLst>
              <a:gd name="adj1" fmla="val 12189"/>
              <a:gd name="adj2" fmla="val 7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回は本格的なプログラミングに挑戦してい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1200" y="3889440"/>
            <a:ext cx="2205000" cy="1495440"/>
          </a:xfrm>
          <a:prstGeom prst="wedgeRectCallout">
            <a:avLst>
              <a:gd name="adj1" fmla="val 64328"/>
              <a:gd name="adj2" fmla="val -43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くのルールを守って野球をやれる人ならば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つの命令しかないプログラムは簡単に組めるはず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0E7-CECC-4404-86A6-B863257DBD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38040" y="174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フローチャートの書き方と命令の関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1080" y="4572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分岐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5640" y="844560"/>
            <a:ext cx="1444680" cy="1755720"/>
            <a:chOff x="485640" y="844560"/>
            <a:chExt cx="1444680" cy="1755720"/>
          </a:xfrm>
        </p:grpSpPr>
        <p:sp>
          <p:nvSpPr>
            <p:cNvPr id="211" name=""/>
            <p:cNvSpPr/>
            <p:nvPr/>
          </p:nvSpPr>
          <p:spPr>
            <a:xfrm>
              <a:off x="485640" y="1006200"/>
              <a:ext cx="1317240" cy="4939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040" y="1779480"/>
              <a:ext cx="125856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処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52720" y="1503360"/>
              <a:ext cx="108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59200" y="2236680"/>
              <a:ext cx="1080" cy="363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34360" y="844560"/>
              <a:ext cx="108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27880" y="1482480"/>
              <a:ext cx="5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5960" y="1234800"/>
              <a:ext cx="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30320" y="1234800"/>
              <a:ext cx="0" cy="111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150200" y="2338200"/>
              <a:ext cx="779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490760" y="86688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17880" y="1014480"/>
            <a:ext cx="1317600" cy="493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1360" y="1787400"/>
            <a:ext cx="125712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84600" y="1511280"/>
            <a:ext cx="1800" cy="290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91080" y="2244600"/>
            <a:ext cx="1440" cy="363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67320" y="852480"/>
            <a:ext cx="1440" cy="160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60840" y="14907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18200" y="1257480"/>
            <a:ext cx="666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0520" y="1257480"/>
            <a:ext cx="0" cy="1117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583160" y="2346480"/>
            <a:ext cx="12729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8360" y="89064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53200" y="1765440"/>
            <a:ext cx="125712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0360" y="278604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ループ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繰返し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" y="3911760"/>
            <a:ext cx="1317600" cy="493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lt;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2720" y="4684680"/>
            <a:ext cx="125748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46320" y="4408560"/>
            <a:ext cx="1440" cy="290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68280" y="6040440"/>
            <a:ext cx="1800" cy="2761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28680" y="3605040"/>
            <a:ext cx="1800" cy="30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98680" y="376380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9560" y="4140360"/>
            <a:ext cx="14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23920" y="4140360"/>
            <a:ext cx="0" cy="191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5960" y="6026040"/>
            <a:ext cx="779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74760" y="43704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9280" y="3772080"/>
            <a:ext cx="7682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3680" y="3772080"/>
            <a:ext cx="0" cy="21175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1880" y="5905440"/>
            <a:ext cx="814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60360" y="5745240"/>
            <a:ext cx="15840" cy="158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760" y="826920"/>
            <a:ext cx="161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件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n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8840" y="819000"/>
            <a:ext cx="1611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件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9760" y="3352680"/>
            <a:ext cx="359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期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終了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3480" y="3181320"/>
            <a:ext cx="125748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9200" y="5373720"/>
            <a:ext cx="125712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X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2440" y="5097600"/>
            <a:ext cx="1800" cy="290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845400" y="3922560"/>
            <a:ext cx="12571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527280" y="4049640"/>
            <a:ext cx="3033720" cy="1044720"/>
          </a:xfrm>
          <a:prstGeom prst="wedgeRectCallout">
            <a:avLst>
              <a:gd name="adj1" fmla="val 58949"/>
              <a:gd name="adj2" fmla="val 3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ローチャートと今回勉強している命令の関係を示しました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.. Nex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は少し複雑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349-9EF4-40CF-9B88-17099C20DD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66840" y="24624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の偶数の合計を表示する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2480" y="754200"/>
            <a:ext cx="703908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.. Nex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命令の例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までの合計を計算するプログラムを示しました。こんど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+4+6..+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以下の偶数の合計を表示するプログラムを作成してください。プログラムは一つだけではなく、いろいろな方法で表示するプログラムを複数開発してみましょう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記の内容も参考にしてくださ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789600" y="2181240"/>
            <a:ext cx="19558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36480" y="3186000"/>
            <a:ext cx="1317600" cy="493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gt;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9960" y="3814920"/>
            <a:ext cx="125712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03200" y="3683160"/>
            <a:ext cx="180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5067360"/>
            <a:ext cx="1800" cy="144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85920" y="2879640"/>
            <a:ext cx="1440" cy="30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68440" y="35751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3414600"/>
            <a:ext cx="14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065320" y="3414600"/>
            <a:ext cx="15840" cy="1625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272960" y="5052960"/>
            <a:ext cx="779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9400" y="31068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6520" y="3046320"/>
            <a:ext cx="7682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0560" y="3046320"/>
            <a:ext cx="0" cy="194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4960" y="4962600"/>
            <a:ext cx="814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3440" y="4802040"/>
            <a:ext cx="15840" cy="158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20840" y="2540160"/>
            <a:ext cx="491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期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終了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増分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0720" y="2455920"/>
            <a:ext cx="125748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440" y="4357800"/>
            <a:ext cx="125712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X +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046240"/>
            <a:ext cx="44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参考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1: For..Next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より詳細の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8960" y="5332320"/>
            <a:ext cx="44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参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整数部分を取り出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53960" y="4257720"/>
            <a:ext cx="180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2560" y="5762520"/>
            <a:ext cx="49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.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INT(A)         &lt;= 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入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B32-CA4B-46ED-8875-BD3A81C6FE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900840" y="4130640"/>
            <a:ext cx="1467000" cy="2457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66840" y="24624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の偶数の合計を表示するプログラム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440" y="608040"/>
            <a:ext cx="351144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SUME1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2880" y="588960"/>
            <a:ext cx="47754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SUME2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2 + 4 + 6 + 8 +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920" y="1557360"/>
            <a:ext cx="326556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SUME3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= 2 To 10 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70120" y="1577880"/>
            <a:ext cx="325152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SUME4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= 1 T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A *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7160" y="3516480"/>
            <a:ext cx="3251160" cy="228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SUME5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= 1 T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X +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71920" y="3522600"/>
            <a:ext cx="3236760" cy="228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ub SUME6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A = 1 T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A = Int(A / 2) * 2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 = S +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orksheets("IO1").Cells(1, 1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81840" y="1625760"/>
            <a:ext cx="1973160" cy="2496960"/>
          </a:xfrm>
          <a:prstGeom prst="wedgeRectCallout">
            <a:avLst>
              <a:gd name="adj1" fmla="val 1810"/>
              <a:gd name="adj2" fmla="val 60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いくつ作ることができました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いんちきみたいなものもありますが「合計を表示する」という意味で、すべて正解です。どれが一番良いかは、それを利用する場面によって判断さ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229-CCE5-48AF-9C55-67F015707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少し実用的なプログラ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合計を計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3040" y="663480"/>
            <a:ext cx="449748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APP1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= 1 T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2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7720" y="275760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94480" y="771480"/>
            <a:ext cx="6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149600" y="93492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319720" y="679320"/>
            <a:ext cx="1724040" cy="2105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630760" y="841320"/>
            <a:ext cx="711360" cy="1757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73440" y="201600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56600" y="18669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計を計算す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個の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791320" y="2825640"/>
            <a:ext cx="1771560" cy="3829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14400" y="3716280"/>
            <a:ext cx="3570480" cy="1247760"/>
          </a:xfrm>
          <a:prstGeom prst="wedgeRectCallout">
            <a:avLst>
              <a:gd name="adj1" fmla="val 69296"/>
              <a:gd name="adj2" fmla="val -30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.. Nex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プログラムを少し改良してみました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シートに入力した値の合計を求めるプログラム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なんとなく実用的なプログラム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55B-EA84-45AE-9105-F71B8654F2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30240" y="3616200"/>
            <a:ext cx="2666880" cy="3067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264280" y="630360"/>
            <a:ext cx="1752480" cy="1590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99880" y="246240"/>
            <a:ext cx="88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の練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Do… Loop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値の数がわからない合計を計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040" y="663480"/>
            <a:ext cx="4497480" cy="277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APP2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 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&lt;&gt;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A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2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7840" y="3540240"/>
            <a:ext cx="21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94480" y="771480"/>
            <a:ext cx="6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149600" y="93492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30760" y="841320"/>
            <a:ext cx="711360" cy="1015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388200" y="139212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26360" y="11113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計を計算する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54480" y="3803760"/>
            <a:ext cx="4194360" cy="2190600"/>
          </a:xfrm>
          <a:prstGeom prst="wedgeRectCallout">
            <a:avLst>
              <a:gd name="adj1" fmla="val -60976"/>
              <a:gd name="adj2" fmla="val -23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計する値の数がわからない場合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のような時、最後に計算を終了するような目印をつけて、そこまで計算するというようなプログラムを作ることができま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例えば、テストの点数だ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までなので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を終了の目印にすることができま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そし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While … Loo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命令を使うと、この終了の値を上手に判断することが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396120" y="195120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61280" y="17575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終了を判断する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F65-A33A-436F-83FB-C28DFEA04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99880" y="246240"/>
            <a:ext cx="88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… Loop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値の数がわからない合計を計算する。のフローチャ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2800" y="649440"/>
            <a:ext cx="3524400" cy="277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APP2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 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&lt;&gt;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A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2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7840" y="3540240"/>
            <a:ext cx="21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5120" y="3084480"/>
            <a:ext cx="1317600" cy="493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lt;&gt;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08600" y="3713040"/>
            <a:ext cx="1257120" cy="4352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41840" y="3581280"/>
            <a:ext cx="180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48320" y="5560920"/>
            <a:ext cx="3240" cy="158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24560" y="2778120"/>
            <a:ext cx="1440" cy="30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68880" y="30369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2600" y="3328920"/>
            <a:ext cx="2379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494200" y="3327480"/>
            <a:ext cx="32040" cy="2249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56240" y="5559480"/>
            <a:ext cx="29275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61160" y="344160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45160" y="2944800"/>
            <a:ext cx="7682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744800" y="2914560"/>
            <a:ext cx="14040" cy="2554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59200" y="5457960"/>
            <a:ext cx="8146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73880" y="5297400"/>
            <a:ext cx="0" cy="158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02120" y="2354400"/>
            <a:ext cx="3386160" cy="43488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15080" y="4255920"/>
            <a:ext cx="125712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A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92600" y="4156200"/>
            <a:ext cx="180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7840" y="1776240"/>
            <a:ext cx="125712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41840" y="2219400"/>
            <a:ext cx="180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43360" y="695160"/>
            <a:ext cx="1463760" cy="3067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開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38760" y="6292800"/>
            <a:ext cx="1463760" cy="30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終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51360" y="1187280"/>
            <a:ext cx="1257480" cy="4352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5720" y="1630440"/>
            <a:ext cx="144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13400" y="1028880"/>
            <a:ext cx="144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37040" y="4843440"/>
            <a:ext cx="3386160" cy="43488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A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76760" y="4708440"/>
            <a:ext cx="180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08600" y="5715000"/>
            <a:ext cx="3386160" cy="4348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2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48320" y="6172200"/>
            <a:ext cx="1440" cy="131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65560" y="2743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407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1752480" cy="2276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816200" y="4021200"/>
            <a:ext cx="2144520" cy="1422360"/>
          </a:xfrm>
          <a:prstGeom prst="wedgeRectCallout">
            <a:avLst>
              <a:gd name="adj1" fmla="val -70800"/>
              <a:gd name="adj2" fmla="val 12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o.. Lo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に入る前と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o..Lo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の最後で、条件を確認す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値を入れ替えることがポイント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7F9-0C94-4D1B-8ED9-E00D31E7E7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少し実用的なプログラ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九九の表を作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440" y="693720"/>
            <a:ext cx="380196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APP99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I = 1 To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J = 1 To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I, J) = I *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7720" y="262728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16200" y="3236760"/>
            <a:ext cx="3539880" cy="1711440"/>
          </a:xfrm>
          <a:prstGeom prst="wedgeRectCallout">
            <a:avLst>
              <a:gd name="adj1" fmla="val 59643"/>
              <a:gd name="adj2" fmla="val -29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.. Nex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の中にさら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..Nex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を入れることもできます。こんな簡単なプログラムでも九九の表をつくることができます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このような繰り返しのプログラムはコンピュータの特異なこと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815000" y="728640"/>
            <a:ext cx="3809880" cy="1800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19680" y="741240"/>
            <a:ext cx="3816360" cy="17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746680" y="2844720"/>
            <a:ext cx="2324160" cy="38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F20-6A69-4067-BA9B-81FC8295C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918040" y="3946680"/>
            <a:ext cx="2038680" cy="2562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少し実用的なプログラ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三角形の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9720" y="677880"/>
            <a:ext cx="5661360" cy="3501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APP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Worksheets("IO1").Cells(1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Worksheets("IO1").Cells(2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= Worksheets("IO1").Cells(3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B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 = C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正三角形で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正三角形以外の値で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正三角形以外の値で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2040" y="423864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6440" y="4754520"/>
            <a:ext cx="4135680" cy="1711440"/>
          </a:xfrm>
          <a:prstGeom prst="wedgeRectCallout">
            <a:avLst>
              <a:gd name="adj1" fmla="val 61055"/>
              <a:gd name="adj2" fmla="val -29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… End 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の中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End 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入れることもできます。こうすることにより複雑な判断ができるようになります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また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の中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..Nex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..Nex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の中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を入れて組み合わせて使うことももちろん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370560" y="2371680"/>
            <a:ext cx="2409840" cy="8668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386400" y="2351160"/>
            <a:ext cx="2409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357960" y="1031760"/>
            <a:ext cx="2409840" cy="8762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364440" y="1036800"/>
            <a:ext cx="2409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C78-51E3-4AF8-AE95-8F1E3358D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66840" y="24624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値でできる三角形の判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000" y="725400"/>
            <a:ext cx="5805360" cy="4358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正三角形、二等辺三角形を判断する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前のプログラムをもとに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つの値を設定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正三角形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二等辺三角形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他の三角形の組み合わせ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判断・表示するプログラムを作成します。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演習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三角形ができない場合も判断する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つの値に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以上の整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0, 1, 2, 3, …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を指定することとして、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正三角形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二等辺三角形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不等辺三角形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三角形ができません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辺として不正な長さが指定されていま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判断・表示するプログラムを作成しま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例えば、どれか一つで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指定されていたら、最後のメッセージを表示します。また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3,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組み合わせでは三角形ができ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377040" y="3408480"/>
            <a:ext cx="2571840" cy="2800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894360" y="1668600"/>
            <a:ext cx="2046600" cy="1466640"/>
          </a:xfrm>
          <a:prstGeom prst="wedgeRectCallout">
            <a:avLst>
              <a:gd name="adj1" fmla="val 10124"/>
              <a:gd name="adj2" fmla="val 64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原理的に、今回勉強したプログラムの範囲で、数値を扱う、どんなプログラムも作成することが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95F-C894-4361-A513-6BFCFACC53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プログラム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cel VBScr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120" y="755640"/>
            <a:ext cx="754524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は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名」から始まり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nd Su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」で終わ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命令は行の上から順番に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の四則演算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＋－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×÷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+-*/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記号を使う。計算の順番は通常と同様乗算除算が加算減算より先に行われる。カッ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計算の順番を変えることが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の中で一時的に値を記録できる変数を定義できる。変数名はアルファベットから始まる文字で定義する。また変数は数式の中でも使用できる。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*5+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で使う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、右辺の計算結果を左辺の変数に入れる意味を持っ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は配列としても定義できる。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名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配列の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文字は””で囲んで定義する。　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ello”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8280" y="319392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560" y="3774960"/>
            <a:ext cx="828720" cy="1019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433600" y="3170160"/>
            <a:ext cx="3962160" cy="580680"/>
            <a:chOff x="2433600" y="3170160"/>
            <a:chExt cx="3962160" cy="580680"/>
          </a:xfrm>
        </p:grpSpPr>
        <p:sp>
          <p:nvSpPr>
            <p:cNvPr id="52" name=""/>
            <p:cNvSpPr/>
            <p:nvPr/>
          </p:nvSpPr>
          <p:spPr>
            <a:xfrm>
              <a:off x="2433600" y="3170160"/>
              <a:ext cx="39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= X +1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　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+ 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のイメー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79728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rot="9966000">
            <a:off x="958320" y="3787200"/>
            <a:ext cx="695520" cy="145800"/>
          </a:xfrm>
          <a:custGeom>
            <a:avLst/>
            <a:gdLst>
              <a:gd name="textAreaLeft" fmla="*/ 121680 w 695520"/>
              <a:gd name="textAreaRight" fmla="*/ 504360 w 695520"/>
              <a:gd name="textAreaTop" fmla="*/ 19440 h 145800"/>
              <a:gd name="textAreaBottom" fmla="*/ 1263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66720" y="38592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1480" y="4840200"/>
            <a:ext cx="11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名前をつけた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変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を入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714760" y="358452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92480" y="37530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9966000">
            <a:off x="2661840" y="3774960"/>
            <a:ext cx="973080" cy="168480"/>
          </a:xfrm>
          <a:custGeom>
            <a:avLst/>
            <a:gdLst>
              <a:gd name="textAreaLeft" fmla="*/ 170280 w 973080"/>
              <a:gd name="textAreaRight" fmla="*/ 705600 w 973080"/>
              <a:gd name="textAreaTop" fmla="*/ 22320 h 168480"/>
              <a:gd name="textAreaBottom" fmla="*/ 146160 h 16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57640" y="3836880"/>
            <a:ext cx="10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2400" y="4818240"/>
            <a:ext cx="220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め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箱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中を取り出し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. 1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計算結果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箱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入れなお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616600">
            <a:off x="2905200" y="4208400"/>
            <a:ext cx="695160" cy="146160"/>
          </a:xfrm>
          <a:custGeom>
            <a:avLst/>
            <a:gdLst>
              <a:gd name="textAreaLeft" fmla="*/ 121680 w 695160"/>
              <a:gd name="textAreaRight" fmla="*/ 504000 w 695160"/>
              <a:gd name="textAreaTop" fmla="*/ 19440 h 146160"/>
              <a:gd name="textAreaBottom" fmla="*/ 1267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264440" y="3273480"/>
            <a:ext cx="167652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3280" y="3584520"/>
            <a:ext cx="2440080" cy="1989360"/>
          </a:xfrm>
          <a:prstGeom prst="wedgeRectCallout">
            <a:avLst>
              <a:gd name="adj1" fmla="val 57351"/>
              <a:gd name="adj2" fmla="val -27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約束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-(3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はあまり難しくないかと思います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は難しいので、今回の授業ではやり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は普通の数学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は違う意味なのでイメージを示してみ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447-1620-41AD-83AB-10BEDE1D18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プログラムで使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cel VBScr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200" y="658800"/>
            <a:ext cx="3960720" cy="4474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F..The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いう命令が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条件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実効する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複数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nd 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の形式で使い、条件が正しければ命令を実行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f..Then..El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いう命令が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条件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実効する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複数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実効する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nd I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形式で使い、条件が正しければ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、正しくなければ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実行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For..Nex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いう命令が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変数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初期値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終了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行する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複数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形式で使い、変数の値を初期値から終了値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づつ増やしながら命令を繰り返し実行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Do While ... Lo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いう命令が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o Whil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実行する命令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複数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形式で使い、条件が正しい間、命令を繰り返して実行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19520" y="696960"/>
            <a:ext cx="396108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条件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数式又は変数 比較演算子 数式又は変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指定し、比較演算子は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=, &lt;&gt;, &gt;, &lt;, &gt;=,&lt;=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使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6) Exc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、シート内のセル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Worksheets("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シート名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").Cel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行番号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列番号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形式で変数と同様に使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指定した変数の整数部分の取り出し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n, C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を計算するプログラムが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関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して組み込まれて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56320" y="3743280"/>
            <a:ext cx="145764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32200" y="3990960"/>
            <a:ext cx="2656080" cy="1668600"/>
          </a:xfrm>
          <a:prstGeom prst="wedgeRectCallout">
            <a:avLst>
              <a:gd name="adj1" fmla="val 60638"/>
              <a:gd name="adj2" fmla="val -21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本語だ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もし…ならば…他の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れぞれ…次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.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間実行…繰り返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いう意味になり、すぐにわかるんです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F97-2C2E-4F5A-BDC2-C96B3C602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の練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プログラムを作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1000" y="797040"/>
            <a:ext cx="5715000" cy="3324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3760" y="4398840"/>
            <a:ext cx="37861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Tes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A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eets("IO1").Cells(1, 1)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59160" y="4275000"/>
            <a:ext cx="1162080" cy="84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06960" y="5051520"/>
            <a:ext cx="19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初めのプログラ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245360" y="3298680"/>
            <a:ext cx="1704960" cy="261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54640" y="318960"/>
            <a:ext cx="2554560" cy="2845080"/>
          </a:xfrm>
          <a:prstGeom prst="wedgeRectCallout">
            <a:avLst>
              <a:gd name="adj1" fmla="val 19921"/>
              <a:gd name="adj2" fmla="val 56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を作る言語はいろいろありますが、授業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中で使え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BScirip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ビデオの見ながら、足し算をするプログラムを入力して実行してみてください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うまくいったら、友達通しでプログラムを意味を考えましょう。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ProgExc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練習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_140620.xlsm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308480" y="5429160"/>
            <a:ext cx="1162080" cy="84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59240" y="620388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四則演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50080" y="5181480"/>
            <a:ext cx="236700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く終わった人は、ビデオを見ながら四則演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+-*/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を計算するプログラムを作りましょ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99-536A-4113-A583-2B7FCF73D9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の練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を入力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6600" y="903240"/>
            <a:ext cx="378612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Test2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A +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2, 1) = A -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3, 1) = A *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A /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87800" y="909720"/>
            <a:ext cx="378648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Tes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orksheets("IO1").Cells(1, 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orksheets("IO1").Cells(1,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A +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2, 1) = A -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3, 1) = A *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A /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79880" y="299088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49520" y="3503520"/>
            <a:ext cx="1638360" cy="106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46800" y="3538440"/>
            <a:ext cx="34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Worksheets("IO1").Cells(1, 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Worksheets("IO1").Cells(1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195520" y="3730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209920" y="394812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2720" y="3297240"/>
            <a:ext cx="1847880" cy="334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70120" y="4716360"/>
            <a:ext cx="5749920" cy="1901880"/>
          </a:xfrm>
          <a:prstGeom prst="wedgeRectCallout">
            <a:avLst>
              <a:gd name="adj1" fmla="val -54939"/>
              <a:gd name="adj2" fmla="val -3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左側は四則演算を計算するプログラムです。この場合、計算したい数値はプログラムの中で定義しているので、別の数値を計算したい時は、プログラムの中の数字を変更する必要がありま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右側のプログラムはこの点を改良したものです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に入れる数値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シートから取り出しています。シートの値を変更することによって、プログラムを変更することなく、いろいろな数値の計算が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25760" y="1278000"/>
            <a:ext cx="551160" cy="434880"/>
          </a:xfrm>
          <a:prstGeom prst="rightArrow">
            <a:avLst>
              <a:gd name="adj1" fmla="val 50000"/>
              <a:gd name="adj2" fmla="val 31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9C7-CD04-4587-92AF-97CE5871D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の練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If… Th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0200" y="969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入るようにシートに入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20480" y="121932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880" y="766800"/>
            <a:ext cx="17146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47760" y="1785960"/>
            <a:ext cx="320760" cy="334800"/>
          </a:xfrm>
          <a:prstGeom prst="downArrow">
            <a:avLst>
              <a:gd name="adj1" fmla="val 42361"/>
              <a:gd name="adj2" fmla="val 57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6200" y="2136600"/>
            <a:ext cx="2954520" cy="13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47840" y="2443320"/>
            <a:ext cx="20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での除算のエラーが発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38600" y="649440"/>
            <a:ext cx="3989520" cy="277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Test4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Worksheets("IO1").Cells(1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Worksheets("IO1").Cells(2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A +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2, 1) = A -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3, 1) = A *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B &lt;&gt; 0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A /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348624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3840" y="1292400"/>
            <a:ext cx="550800" cy="434880"/>
          </a:xfrm>
          <a:prstGeom prst="rightArrow">
            <a:avLst>
              <a:gd name="adj1" fmla="val 50000"/>
              <a:gd name="adj2" fmla="val 316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46520" y="18716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改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41960" y="4038480"/>
            <a:ext cx="3510000" cy="179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比較演算子 △ の条件を指定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△ 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しい場合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&lt;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△ 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しくない場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△ (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大き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△ (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小さ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未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△ (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大きいか等し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以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&lt;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△ (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小さいか等し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以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780000" y="4341960"/>
            <a:ext cx="1409400" cy="232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4680" y="3919680"/>
            <a:ext cx="3413160" cy="2160360"/>
          </a:xfrm>
          <a:prstGeom prst="wedgeRectCallout">
            <a:avLst>
              <a:gd name="adj1" fmla="val 60930"/>
              <a:gd name="adj2" fmla="val -1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スライドのプログラム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設定させるよう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シートに入力すると、実行時にエラーが発生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れは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の割り算が起きるため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これ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命令を使って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以外の時に割り算を実行するように変更すると、このエラーを回避することが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440" y="770040"/>
            <a:ext cx="1712880" cy="10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7A2-FE37-4ECB-AC2F-B5F0C3B69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の練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If… Then…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18240" y="252252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の割り算の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214760" y="27874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3040" y="663480"/>
            <a:ext cx="4497480" cy="301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Test5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Worksheets("IO1").Cells(1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= Worksheets("IO1").Cells(2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A +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2, 1) = A -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3, 1) = A *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B = 0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"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での割り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4, 1) = A /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3680" y="3701880"/>
            <a:ext cx="21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08400" y="4297320"/>
            <a:ext cx="3412800" cy="1682640"/>
          </a:xfrm>
          <a:prstGeom prst="wedgeRectCallout">
            <a:avLst>
              <a:gd name="adj1" fmla="val 63861"/>
              <a:gd name="adj2" fmla="val -1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のプログラムで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の割り算が発生した時は、特に何も表示されません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.. Then…Els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命令を使う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時も、対応したメッセージを表示することができるよう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2800" y="2314440"/>
            <a:ext cx="1695240" cy="1038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2800" y="668160"/>
            <a:ext cx="1695240" cy="107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69040" y="684360"/>
            <a:ext cx="1712880" cy="10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1000" y="2301840"/>
            <a:ext cx="1713240" cy="10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435720" y="4081320"/>
            <a:ext cx="1181160" cy="235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BB5-EBA0-4DCD-A504-AE35401729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49960" y="676440"/>
            <a:ext cx="1057320" cy="542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9880" y="246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約束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つの命令の練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For…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92920" y="80964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実行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74960" y="958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3040" y="663480"/>
            <a:ext cx="449748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ext1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A = 1 T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1, 1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2120" y="2482920"/>
            <a:ext cx="21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9040" y="684360"/>
            <a:ext cx="103032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960" y="2833560"/>
            <a:ext cx="449748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ext2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A = 1 T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A, 1) 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eets("IO1").Cells(A, 1) =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5760" y="4884840"/>
            <a:ext cx="21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3320" y="2798640"/>
            <a:ext cx="1047960" cy="2276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05400" y="2811600"/>
            <a:ext cx="1030320" cy="22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9600" y="312408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実行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641640" y="32734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657840" y="4395960"/>
            <a:ext cx="1486080" cy="244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71640" y="5384880"/>
            <a:ext cx="4384800" cy="1218960"/>
          </a:xfrm>
          <a:prstGeom prst="wedgeRectCallout">
            <a:avLst>
              <a:gd name="adj1" fmla="val 57712"/>
              <a:gd name="adj2" fmla="val -31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.. Nex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命令を使うと、同じ処理を繰り返して実行することができます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わかるように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いう変数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づつ増加し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まで、結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繰り返さ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2E5-4C3C-4AFA-99DA-439EDF8507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1800" y="4917960"/>
            <a:ext cx="1467000" cy="175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8040" y="1890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フローチャートの書き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0360" y="1204920"/>
            <a:ext cx="1463760" cy="30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開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00" y="53640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プログラムの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開始と終わ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840" y="2606760"/>
            <a:ext cx="1463400" cy="30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終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0560" y="1509840"/>
            <a:ext cx="0" cy="108900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43080" y="557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処理の流れの表記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アルゴリズ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2120" y="7984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逐次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直線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35640" y="79056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分岐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54320" y="1185840"/>
            <a:ext cx="1307520" cy="2036880"/>
            <a:chOff x="2254320" y="1185840"/>
            <a:chExt cx="1307520" cy="2036880"/>
          </a:xfrm>
        </p:grpSpPr>
        <p:sp>
          <p:nvSpPr>
            <p:cNvPr id="142" name=""/>
            <p:cNvSpPr/>
            <p:nvPr/>
          </p:nvSpPr>
          <p:spPr>
            <a:xfrm>
              <a:off x="2260800" y="1989360"/>
              <a:ext cx="129384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処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25360" y="1844640"/>
              <a:ext cx="1440" cy="160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32200" y="2462400"/>
              <a:ext cx="144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67640" y="1359000"/>
              <a:ext cx="129420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処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06640" y="1185840"/>
              <a:ext cx="1440" cy="160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54320" y="2619360"/>
              <a:ext cx="1293840" cy="43524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処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25360" y="3062520"/>
              <a:ext cx="144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029120" y="1163520"/>
            <a:ext cx="1444680" cy="1755720"/>
            <a:chOff x="4029120" y="1163520"/>
            <a:chExt cx="1444680" cy="1755720"/>
          </a:xfrm>
        </p:grpSpPr>
        <p:sp>
          <p:nvSpPr>
            <p:cNvPr id="150" name=""/>
            <p:cNvSpPr/>
            <p:nvPr/>
          </p:nvSpPr>
          <p:spPr>
            <a:xfrm>
              <a:off x="4029120" y="1325160"/>
              <a:ext cx="1317240" cy="4939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条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61520" y="2098440"/>
              <a:ext cx="125856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の処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96200" y="1822320"/>
              <a:ext cx="108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02680" y="2555640"/>
              <a:ext cx="1080" cy="363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77840" y="1163520"/>
              <a:ext cx="108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71360" y="1801440"/>
              <a:ext cx="5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29440" y="1553760"/>
              <a:ext cx="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73800" y="1553760"/>
              <a:ext cx="0" cy="111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693680" y="2657160"/>
              <a:ext cx="779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033880" y="118584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37120" y="1289160"/>
            <a:ext cx="1317600" cy="493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70600" y="2062080"/>
            <a:ext cx="125712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03840" y="1785960"/>
            <a:ext cx="1800" cy="290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10320" y="2519280"/>
            <a:ext cx="1440" cy="363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6560" y="1127160"/>
            <a:ext cx="1440" cy="160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0080" y="1765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7440" y="1531800"/>
            <a:ext cx="666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9760" y="1531800"/>
            <a:ext cx="0" cy="111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602040" y="2620800"/>
            <a:ext cx="12733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97600" y="116532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2440" y="2039760"/>
            <a:ext cx="125712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3800" y="34974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ループ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繰返し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126200" y="3897360"/>
            <a:ext cx="1760760" cy="2160720"/>
            <a:chOff x="7126200" y="3897360"/>
            <a:chExt cx="1760760" cy="2160720"/>
          </a:xfrm>
        </p:grpSpPr>
        <p:sp>
          <p:nvSpPr>
            <p:cNvPr id="173" name=""/>
            <p:cNvSpPr/>
            <p:nvPr/>
          </p:nvSpPr>
          <p:spPr>
            <a:xfrm>
              <a:off x="7256520" y="4203720"/>
              <a:ext cx="1317600" cy="4935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終了条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89640" y="4976640"/>
              <a:ext cx="1257480" cy="43524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ループの処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3240" y="4700520"/>
              <a:ext cx="144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9720" y="5781600"/>
              <a:ext cx="1440" cy="276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05600" y="3897360"/>
              <a:ext cx="180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99480" y="465120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56480" y="4432320"/>
              <a:ext cx="144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01200" y="4432320"/>
              <a:ext cx="0" cy="134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907040" y="5767560"/>
              <a:ext cx="779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99440" y="4124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26200" y="4064040"/>
              <a:ext cx="76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40600" y="4064040"/>
              <a:ext cx="0" cy="1538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55000" y="5573880"/>
              <a:ext cx="769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08840" y="5413320"/>
              <a:ext cx="15840" cy="158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070600" y="3906720"/>
            <a:ext cx="1582560" cy="2160360"/>
            <a:chOff x="5070600" y="3906720"/>
            <a:chExt cx="1582560" cy="2160360"/>
          </a:xfrm>
        </p:grpSpPr>
        <p:sp>
          <p:nvSpPr>
            <p:cNvPr id="188" name=""/>
            <p:cNvSpPr/>
            <p:nvPr/>
          </p:nvSpPr>
          <p:spPr>
            <a:xfrm>
              <a:off x="5335560" y="4939920"/>
              <a:ext cx="1317600" cy="4939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終了条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1640" y="4203360"/>
              <a:ext cx="1257480" cy="43524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ループの処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0840" y="4667040"/>
              <a:ext cx="144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80320" y="5443200"/>
              <a:ext cx="1440" cy="623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3200" y="3906720"/>
              <a:ext cx="180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03800" y="4073400"/>
              <a:ext cx="768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9400" y="4073400"/>
              <a:ext cx="0" cy="1145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7960" y="5190840"/>
              <a:ext cx="2048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70600" y="4792320"/>
              <a:ext cx="71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54760" y="550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610080" y="4519440"/>
            <a:ext cx="125712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ループの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43320" y="4040280"/>
            <a:ext cx="1800" cy="493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75080" y="4245120"/>
            <a:ext cx="7826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60680" y="4202280"/>
            <a:ext cx="0" cy="942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5080" y="5116680"/>
            <a:ext cx="770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29280" y="4956120"/>
            <a:ext cx="15840" cy="158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61246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無限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4040" y="611820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後判断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28000" y="609588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判断ル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3382920"/>
            <a:ext cx="2830680" cy="1146240"/>
          </a:xfrm>
          <a:prstGeom prst="wedgeRectCallout">
            <a:avLst>
              <a:gd name="adj1" fmla="val -16574"/>
              <a:gd name="adj2" fmla="val 7783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グラムや人間の判断などのアルゴリズムは基本的に、逐次型、分岐型、ループ型の組み合わせで表現できま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360-A435-4763-AE88-7E6D4845CC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Owner</cp:lastModifiedBy>
  <dcterms:modified xsi:type="dcterms:W3CDTF">2014-06-20T07:13:47Z</dcterms:modified>
  <cp:revision>1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