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808-2AE4-49A6-AF70-36A360F5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2FF-2899-4377-B39E-6EC9F06D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717-2D6B-4A02-90C6-FA432B5D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659-B70D-4CB3-BED9-E01A01D5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ACB-79F2-4A02-BB1C-9B6E22B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9EA-2F89-431C-98F7-F9E5B2E2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162-95CB-4787-A5AE-B668D406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CC5-5CA4-4A7D-B9E8-681D7E4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65D-9A06-4612-AB49-8AD695C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79C-8EF5-4CBB-A502-8565D18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24A-C97B-4A20-A1D9-C8DE0E1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498-4AF5-4CC5-AE66-C47BE73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B0A-B557-4D5E-A2A9-6C1DB607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kii.co.jp/tsk/fukuro/hajime/index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ミニトマトの観察日記ブロ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タイ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収穫量のコンテス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6248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er 1.0 2013/04/19© Go Ota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229360" cy="33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1523880"/>
            <a:ext cx="1981080" cy="914400"/>
          </a:xfrm>
          <a:prstGeom prst="wedgeRectCallout">
            <a:avLst>
              <a:gd name="adj1" fmla="val -17388"/>
              <a:gd name="adj2" fmla="val 7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先生なんで情報科で、ミニトマトの栽培なんです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743200"/>
            <a:ext cx="2362320" cy="2133720"/>
          </a:xfrm>
          <a:prstGeom prst="wedgeRectCallout">
            <a:avLst>
              <a:gd name="adj1" fmla="val 72245"/>
              <a:gd name="adj2" fmla="val -37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学・中学校でもミニトマトを作ってきたかもしれないけど、どうしたら多くの収穫があるか考えたことありました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そしたら、ジャージに着替えて農作業だ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14B-7510-4C3E-AA0A-C7D0EB04CB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ミニトマト栽培の問題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876920"/>
            <a:ext cx="4876920" cy="1371600"/>
          </a:xfrm>
          <a:prstGeom prst="wedgeRectCallout">
            <a:avLst>
              <a:gd name="adj1" fmla="val 66472"/>
              <a:gd name="adj2" fmla="val -39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の栽培の目的は、多く収穫できたり、味の良い実がなることですね。そのためには、いろいろな要因があります。ミニトマトを問題解決としてとらえて、今回はどれだけ、多くの収穫があるかが目的として作業していき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108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くの収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甘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糖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905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23623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96252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植えつけ場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59092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当た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04812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風・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91440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666880" y="2361960"/>
            <a:ext cx="533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195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44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50532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容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23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3716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土の配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8288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元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520" y="12952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432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91440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3716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8288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育成状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419720" y="12952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483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95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91440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世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13716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水や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828800"/>
            <a:ext cx="1219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120" y="12952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272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4008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505320"/>
            <a:ext cx="160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病害虫対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259092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病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304812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外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029200" y="236196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1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34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91520" y="4419720"/>
            <a:ext cx="1047600" cy="180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3F5-1EA5-43E9-8F6B-4299C3D6CA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049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授業の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762120"/>
            <a:ext cx="4267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目の授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育成のための情報検索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植え付け計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05120"/>
            <a:ext cx="426744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宿題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植え付けのための準備、資材購入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181480"/>
            <a:ext cx="4343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目の授業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の収穫量の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819520"/>
            <a:ext cx="42674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目の授業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の植え付け作業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観察ブログの開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962520"/>
            <a:ext cx="426744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宿題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ミニトマトの世話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観察ブログのアップデー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F8E-9BEC-41E6-92AB-CB36EE61C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ミニトマト栽培コンテストのレギュレーショ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ルー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1440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種はミニトマトとする。但し、非常に多収穫の小粒のマイクロトマトなどは不可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土・容器は自由とする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基本的に無農薬とす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科学的な農薬の使用は不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収穫量のカウントは食用に耐えるものとする。未成熟な実などはカウントし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666880"/>
            <a:ext cx="7924680" cy="18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植物を栽培して、そのものに触れたり、植物の生長・開花・結実の様子を観察したりすることによって、次のような四つの大切な心が育はぐくまれるものと思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第一の心は、「和らぐ心」です。これは、植物の存在や植物に関わることで、気持ちが落ち着き、精神的に安定する心が育つのではないかと考え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第二の心は、植物の生長・開花・結実といった様々な現象を観察して、「不思議に思ったり、驚いたりする心」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三つ目の心は、生きている植物の生命力に触れ、「命を感じる心、命を大切にする心」が育つのではないかと思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して、四つ目の心は、栽培して植物が順調に育つことや植物に関わることを楽しみ、野菜では収穫して食べることを楽しく思い、また、草花であれば開花した花を楽しむ「楽しむ心」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タキイ種苗 植物が育て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つの大切な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akii.co.jp/tsk/fukuro/hajime/index.htm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C3E-C688-4453-ABE5-D2A08E294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wner</cp:lastModifiedBy>
  <dcterms:modified xsi:type="dcterms:W3CDTF">2014-04-21T00:39:2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